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990E-5C6F-4CEB-A39D-84DF0ED37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96960"/>
            <a:ext cx="4572000" cy="34272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8 m/s) - (5 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+3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3 m/s) / (3 s) = + 1.0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96960"/>
            <a:ext cx="4572000" cy="34272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5 m/s) - (8 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-3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-3 m/s) / (3 s) = -1.0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96960"/>
            <a:ext cx="4572000" cy="34272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8 m/s) - (-5 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-3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-3 m/s) / (3 s) = -1 m/s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speed is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i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96960"/>
            <a:ext cx="4572000" cy="34272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5 m/s) - (-8 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+3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3 m/s) / (3 s) = + 1.0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speed i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is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69120" cy="34272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1) - (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-2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-2 m/s) / (3 s) = -0.67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69120" cy="34272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+1) - (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+2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+2 m/s) / (3 s) = +0.67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C91-6672-4B95-B4DB-E68805BA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761-1164-4CD6-AF4B-A86B884C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70E-2B58-4401-93EA-9561AC63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EDC-B9ED-4377-ACFF-F839E129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018-47E0-4338-8396-3640F86F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1A9-FE79-442B-9774-B989F85F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9FC-7A0A-4A0F-8EA5-B898F7A2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B63-B30D-4642-A29F-C709F300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A13-8217-4BDC-9451-3E4B9505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48E-ABF3-4ABE-A32F-F6B2C838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2F7-D048-4F48-B94A-743D856F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49A-9ACB-4F13-ABE4-C549E1F7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E17F-5F8A-44E1-924D-7F160F592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1spiral%20noteboo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1spiral%20notebook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1spiral%20notebook" descr="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1spiral%20notebook" descr="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1DKin/U1L1b.html" TargetMode="External"/><Relationship Id="rId2" Type="http://schemas.openxmlformats.org/officeDocument/2006/relationships/hyperlink" Target="http://www.physicsclassroom.com/Class/1DKin/U1L1d.html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cript MT Bold"/>
              </a:rPr>
              <a:t>Mechanics II</a:t>
            </a:r>
            <a:br>
              <a:rPr sz="3600"/>
            </a:br>
            <a:r>
              <a:rPr b="1" lang="en-US" sz="3600" spc="-1" strike="noStrike">
                <a:solidFill>
                  <a:srgbClr val="00cc00"/>
                </a:solidFill>
                <a:latin typeface="Script MT Bold"/>
              </a:rPr>
              <a:t>Accel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aneous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cement versus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aneous Accel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locity versus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l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1752480"/>
            <a:ext cx="0" cy="373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86400"/>
            <a:ext cx="5257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57320" y="3423600"/>
            <a:ext cx="24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2070000"/>
            <a:ext cx="4698720" cy="3416400"/>
          </a:xfrm>
          <a:custGeom>
            <a:avLst/>
            <a:gdLst/>
            <a:ahLst/>
            <a:rect l="l" t="t" r="r" b="b"/>
            <a:pathLst>
              <a:path w="2960" h="2152">
                <a:moveTo>
                  <a:pt x="0" y="2152"/>
                </a:moveTo>
                <a:cubicBezTo>
                  <a:pt x="104" y="1904"/>
                  <a:pt x="208" y="1656"/>
                  <a:pt x="384" y="1528"/>
                </a:cubicBezTo>
                <a:cubicBezTo>
                  <a:pt x="560" y="1400"/>
                  <a:pt x="888" y="1488"/>
                  <a:pt x="1056" y="1384"/>
                </a:cubicBezTo>
                <a:cubicBezTo>
                  <a:pt x="1224" y="1280"/>
                  <a:pt x="1160" y="984"/>
                  <a:pt x="1392" y="904"/>
                </a:cubicBezTo>
                <a:cubicBezTo>
                  <a:pt x="1624" y="824"/>
                  <a:pt x="2200" y="1032"/>
                  <a:pt x="2448" y="904"/>
                </a:cubicBezTo>
                <a:cubicBezTo>
                  <a:pt x="2696" y="776"/>
                  <a:pt x="2800" y="272"/>
                  <a:pt x="2880" y="136"/>
                </a:cubicBezTo>
                <a:cubicBezTo>
                  <a:pt x="2960" y="0"/>
                  <a:pt x="2944" y="44"/>
                  <a:pt x="2928" y="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38680" y="3505320"/>
            <a:ext cx="457200" cy="612000"/>
            <a:chOff x="5638680" y="3505320"/>
            <a:chExt cx="457200" cy="612000"/>
          </a:xfrm>
        </p:grpSpPr>
        <p:sp>
          <p:nvSpPr>
            <p:cNvPr id="90" name=""/>
            <p:cNvSpPr/>
            <p:nvPr/>
          </p:nvSpPr>
          <p:spPr>
            <a:xfrm>
              <a:off x="563868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15000" y="3505320"/>
              <a:ext cx="46080" cy="4608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V="1">
            <a:off x="5029200" y="3174840"/>
            <a:ext cx="1676520" cy="6350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895480" y="4348080"/>
            <a:ext cx="533520" cy="607320"/>
            <a:chOff x="2895480" y="4348080"/>
            <a:chExt cx="533520" cy="607320"/>
          </a:xfrm>
        </p:grpSpPr>
        <p:sp>
          <p:nvSpPr>
            <p:cNvPr id="94" name=""/>
            <p:cNvSpPr/>
            <p:nvPr/>
          </p:nvSpPr>
          <p:spPr>
            <a:xfrm>
              <a:off x="3048120" y="4348080"/>
              <a:ext cx="46080" cy="4608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5480" y="4495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flipV="1">
            <a:off x="2209680" y="4267080"/>
            <a:ext cx="2057400" cy="1526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08240"/>
            <a:ext cx="826776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 - speed up in positive direction = posi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22840" y="2514600"/>
            <a:ext cx="7063560" cy="2215440"/>
            <a:chOff x="1122840" y="2514600"/>
            <a:chExt cx="7063560" cy="2215440"/>
          </a:xfrm>
        </p:grpSpPr>
        <p:sp>
          <p:nvSpPr>
            <p:cNvPr id="102" name=""/>
            <p:cNvSpPr/>
            <p:nvPr/>
          </p:nvSpPr>
          <p:spPr>
            <a:xfrm>
              <a:off x="3931560" y="35053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984640" y="3059280"/>
              <a:ext cx="1680480" cy="1055520"/>
              <a:chOff x="5984640" y="3059280"/>
              <a:chExt cx="1680480" cy="105552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6238800" y="3128040"/>
                <a:ext cx="1425960" cy="81756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217560" y="3306600"/>
                <a:ext cx="1218960" cy="482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984280" y="3059280"/>
                <a:ext cx="992520" cy="105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803280" y="3128040"/>
                <a:ext cx="176040" cy="168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6803280" y="3791520"/>
                <a:ext cx="176040" cy="15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6591960" y="313056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584400" y="318780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6591960" y="323748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591960" y="328032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6591960" y="375804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591960" y="382212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6591960" y="388656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606000" y="395064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647000" y="2514600"/>
              <a:ext cx="1297440" cy="397440"/>
              <a:chOff x="1647000" y="2514600"/>
              <a:chExt cx="1297440" cy="397440"/>
            </a:xfrm>
          </p:grpSpPr>
          <p:sp>
            <p:nvSpPr>
              <p:cNvPr id="118" name=""/>
              <p:cNvSpPr/>
              <p:nvPr/>
            </p:nvSpPr>
            <p:spPr>
              <a:xfrm>
                <a:off x="1647000" y="2514600"/>
                <a:ext cx="12974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+ dir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40840" y="2530440"/>
                <a:ext cx="6854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227200" y="4267080"/>
              <a:ext cx="1483920" cy="462960"/>
              <a:chOff x="5227200" y="4267080"/>
              <a:chExt cx="1483920" cy="462960"/>
            </a:xfrm>
          </p:grpSpPr>
          <p:sp>
            <p:nvSpPr>
              <p:cNvPr id="121" name=""/>
              <p:cNvSpPr/>
              <p:nvPr/>
            </p:nvSpPr>
            <p:spPr>
              <a:xfrm>
                <a:off x="5437800" y="4290840"/>
                <a:ext cx="1192320" cy="43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8 m/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227200" y="4267080"/>
                <a:ext cx="14839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50840" y="4251240"/>
              <a:ext cx="1242000" cy="439200"/>
              <a:chOff x="1950840" y="4251240"/>
              <a:chExt cx="1242000" cy="439200"/>
            </a:xfrm>
          </p:grpSpPr>
          <p:sp>
            <p:nvSpPr>
              <p:cNvPr id="124" name=""/>
              <p:cNvSpPr/>
              <p:nvPr/>
            </p:nvSpPr>
            <p:spPr>
              <a:xfrm>
                <a:off x="2008080" y="4251240"/>
                <a:ext cx="1184760" cy="43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5 m/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50840" y="4278240"/>
                <a:ext cx="11426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747600" y="3546360"/>
              <a:ext cx="1027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041080" y="3147840"/>
              <a:ext cx="1531800" cy="801000"/>
              <a:chOff x="5041080" y="3147840"/>
              <a:chExt cx="1531800" cy="8010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666760" y="3147840"/>
                <a:ext cx="906120" cy="779040"/>
                <a:chOff x="5666760" y="3147840"/>
                <a:chExt cx="906120" cy="7790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5666760" y="3221280"/>
                  <a:ext cx="906120" cy="705600"/>
                  <a:chOff x="5666760" y="3221280"/>
                  <a:chExt cx="906120" cy="705600"/>
                </a:xfrm>
              </p:grpSpPr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5666760" y="3575520"/>
                    <a:ext cx="335160" cy="351360"/>
                    <a:chOff x="5666760" y="3575520"/>
                    <a:chExt cx="335160" cy="35136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 flipH="1">
                      <a:off x="5667480" y="3575520"/>
                      <a:ext cx="32940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5837760" y="3577680"/>
                      <a:ext cx="0" cy="349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5666760" y="3749040"/>
                      <a:ext cx="335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5716440" y="362772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flipH="1">
                      <a:off x="5716440" y="3634920"/>
                      <a:ext cx="24228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5773680" y="3584880"/>
                      <a:ext cx="12816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 flipH="1">
                      <a:off x="5773680" y="359208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5680800" y="3684960"/>
                      <a:ext cx="313920" cy="120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flipV="1">
                      <a:off x="5688000" y="3699000"/>
                      <a:ext cx="30672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0" name=""/>
                  <p:cNvSpPr/>
                  <p:nvPr/>
                </p:nvSpPr>
                <p:spPr>
                  <a:xfrm flipH="1">
                    <a:off x="5835960" y="3442320"/>
                    <a:ext cx="429480" cy="3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6208560" y="3221280"/>
                    <a:ext cx="364320" cy="684360"/>
                    <a:chOff x="6208560" y="3221280"/>
                    <a:chExt cx="364320" cy="684360"/>
                  </a:xfrm>
                </p:grpSpPr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6208560" y="3554280"/>
                      <a:ext cx="335520" cy="351360"/>
                      <a:chOff x="6208560" y="3554280"/>
                      <a:chExt cx="335520" cy="35136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 flipH="1">
                        <a:off x="6209640" y="3554280"/>
                        <a:ext cx="329400" cy="346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6379920" y="3556440"/>
                        <a:ext cx="0" cy="349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6208560" y="3727800"/>
                        <a:ext cx="3355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6258960" y="3606480"/>
                        <a:ext cx="23544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 flipH="1">
                        <a:off x="6258960" y="3613320"/>
                        <a:ext cx="24228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6316200" y="3563640"/>
                        <a:ext cx="128520" cy="320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 flipH="1">
                        <a:off x="6316200" y="3570840"/>
                        <a:ext cx="135360" cy="313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6223320" y="3663720"/>
                        <a:ext cx="314280" cy="120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 flipV="1">
                        <a:off x="6230520" y="3677040"/>
                        <a:ext cx="306720" cy="114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273000" y="3392640"/>
                      <a:ext cx="0" cy="10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flipH="1">
                      <a:off x="6287760" y="3221280"/>
                      <a:ext cx="284760" cy="52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4" name=""/>
                    <p:cNvGrpSpPr/>
                    <p:nvPr/>
                  </p:nvGrpSpPr>
                  <p:grpSpPr>
                    <a:xfrm>
                      <a:off x="6248880" y="3391560"/>
                      <a:ext cx="123120" cy="122040"/>
                      <a:chOff x="6248880" y="3391560"/>
                      <a:chExt cx="123120" cy="122040"/>
                    </a:xfrm>
                  </p:grpSpPr>
                  <p:sp>
                    <p:nvSpPr>
                      <p:cNvPr id="155" name=""/>
                      <p:cNvSpPr/>
                      <p:nvPr/>
                    </p:nvSpPr>
                    <p:spPr>
                      <a:xfrm flipH="1">
                        <a:off x="6248520" y="3393720"/>
                        <a:ext cx="118440" cy="11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 flipH="1">
                        <a:off x="6253200" y="3391560"/>
                        <a:ext cx="118440" cy="11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258960" y="339264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6144840" y="3742200"/>
                    <a:ext cx="99720" cy="70920"/>
                    <a:chOff x="6144840" y="3742200"/>
                    <a:chExt cx="99720" cy="7092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144840" y="3742200"/>
                      <a:ext cx="64080" cy="70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194880" y="381312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" name=""/>
                  <p:cNvSpPr/>
                  <p:nvPr/>
                </p:nvSpPr>
                <p:spPr>
                  <a:xfrm flipH="1">
                    <a:off x="6099480" y="3682800"/>
                    <a:ext cx="82800" cy="1044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6051960" y="3670920"/>
                    <a:ext cx="99720" cy="71280"/>
                    <a:chOff x="6051960" y="3670920"/>
                    <a:chExt cx="99720" cy="71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flipH="1" flipV="1">
                      <a:off x="6087600" y="3670920"/>
                      <a:ext cx="64080" cy="71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flipH="1">
                      <a:off x="6051960" y="367092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5" name=""/>
                <p:cNvSpPr/>
                <p:nvPr/>
              </p:nvSpPr>
              <p:spPr>
                <a:xfrm flipH="1">
                  <a:off x="6248880" y="3147840"/>
                  <a:ext cx="169200" cy="14724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5978880" y="3221280"/>
                  <a:ext cx="265320" cy="44352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5978520" y="3449880"/>
                  <a:ext cx="294120" cy="3650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6193080" y="3278520"/>
                  <a:ext cx="165240" cy="186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 flipH="1">
                <a:off x="5434200" y="3157200"/>
                <a:ext cx="774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5291280" y="3335400"/>
                <a:ext cx="724680" cy="3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>
                <a:off x="5344560" y="3409920"/>
                <a:ext cx="53532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5166360" y="3553200"/>
                <a:ext cx="492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5041080" y="3695760"/>
                <a:ext cx="56052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5255640" y="3838320"/>
                <a:ext cx="36756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5112720" y="3945600"/>
                <a:ext cx="6102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5559120" y="3221280"/>
                <a:ext cx="50652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39800" y="3160440"/>
              <a:ext cx="2020680" cy="806760"/>
              <a:chOff x="1639800" y="3160440"/>
              <a:chExt cx="2020680" cy="8067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2754000" y="3165480"/>
                <a:ext cx="906480" cy="779400"/>
                <a:chOff x="2754000" y="3165480"/>
                <a:chExt cx="906480" cy="7794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2754000" y="3238920"/>
                  <a:ext cx="906480" cy="705960"/>
                  <a:chOff x="2754000" y="3238920"/>
                  <a:chExt cx="906480" cy="705960"/>
                </a:xfrm>
              </p:grpSpPr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2754000" y="3593160"/>
                    <a:ext cx="335520" cy="351720"/>
                    <a:chOff x="2754000" y="3593160"/>
                    <a:chExt cx="335520" cy="35172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H="1">
                      <a:off x="2755080" y="3593160"/>
                      <a:ext cx="32940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925360" y="3595320"/>
                      <a:ext cx="0" cy="349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2754000" y="376668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2804040" y="3645360"/>
                      <a:ext cx="235440" cy="23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>
                      <a:off x="2804040" y="3652560"/>
                      <a:ext cx="2426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2861280" y="3602520"/>
                      <a:ext cx="12816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flipH="1">
                      <a:off x="2861640" y="360972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2768400" y="3702600"/>
                      <a:ext cx="313920" cy="12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flipV="1">
                      <a:off x="2775600" y="3716640"/>
                      <a:ext cx="30672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" name=""/>
                  <p:cNvSpPr/>
                  <p:nvPr/>
                </p:nvSpPr>
                <p:spPr>
                  <a:xfrm flipH="1">
                    <a:off x="2923920" y="3459960"/>
                    <a:ext cx="429480" cy="3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3296880" y="3238920"/>
                    <a:ext cx="363600" cy="684360"/>
                    <a:chOff x="3296880" y="3238920"/>
                    <a:chExt cx="363600" cy="684360"/>
                  </a:xfrm>
                </p:grpSpPr>
                <p:grpSp>
                  <p:nvGrpSpPr>
                    <p:cNvPr id="192" name=""/>
                    <p:cNvGrpSpPr/>
                    <p:nvPr/>
                  </p:nvGrpSpPr>
                  <p:grpSpPr>
                    <a:xfrm>
                      <a:off x="3296880" y="3571920"/>
                      <a:ext cx="335160" cy="351360"/>
                      <a:chOff x="3296880" y="3571920"/>
                      <a:chExt cx="335160" cy="351360"/>
                    </a:xfrm>
                  </p:grpSpPr>
                  <p:sp>
                    <p:nvSpPr>
                      <p:cNvPr id="193" name=""/>
                      <p:cNvSpPr/>
                      <p:nvPr/>
                    </p:nvSpPr>
                    <p:spPr>
                      <a:xfrm flipH="1">
                        <a:off x="3297600" y="3571920"/>
                        <a:ext cx="329400" cy="3470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3467880" y="3574080"/>
                        <a:ext cx="0" cy="349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3296880" y="3745440"/>
                        <a:ext cx="3351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3346560" y="3624120"/>
                        <a:ext cx="23544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 flipH="1">
                        <a:off x="3346560" y="3630960"/>
                        <a:ext cx="242640" cy="235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3403800" y="3581280"/>
                        <a:ext cx="128160" cy="320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"/>
                      <p:cNvSpPr/>
                      <p:nvPr/>
                    </p:nvSpPr>
                    <p:spPr>
                      <a:xfrm flipH="1">
                        <a:off x="3403800" y="3588480"/>
                        <a:ext cx="135360" cy="313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3310920" y="3681360"/>
                        <a:ext cx="313920" cy="120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" name=""/>
                      <p:cNvSpPr/>
                      <p:nvPr/>
                    </p:nvSpPr>
                    <p:spPr>
                      <a:xfrm flipV="1">
                        <a:off x="3318120" y="3695400"/>
                        <a:ext cx="306720" cy="113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360960" y="3410280"/>
                      <a:ext cx="0" cy="10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>
                      <a:off x="3375360" y="3238920"/>
                      <a:ext cx="284760" cy="52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4" name=""/>
                    <p:cNvGrpSpPr/>
                    <p:nvPr/>
                  </p:nvGrpSpPr>
                  <p:grpSpPr>
                    <a:xfrm>
                      <a:off x="3337200" y="3408840"/>
                      <a:ext cx="122400" cy="123120"/>
                      <a:chOff x="3337200" y="3408840"/>
                      <a:chExt cx="122400" cy="123120"/>
                    </a:xfrm>
                  </p:grpSpPr>
                  <p:sp>
                    <p:nvSpPr>
                      <p:cNvPr id="205" name=""/>
                      <p:cNvSpPr/>
                      <p:nvPr/>
                    </p:nvSpPr>
                    <p:spPr>
                      <a:xfrm flipH="1">
                        <a:off x="3336840" y="3411360"/>
                        <a:ext cx="117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 flipH="1">
                        <a:off x="3341520" y="3408840"/>
                        <a:ext cx="117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3346560" y="341028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3232800" y="3759840"/>
                    <a:ext cx="99360" cy="70920"/>
                    <a:chOff x="3232800" y="3759840"/>
                    <a:chExt cx="99360" cy="7092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3232800" y="3759840"/>
                      <a:ext cx="64080" cy="70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3282480" y="383076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 flipH="1">
                    <a:off x="3186720" y="3700440"/>
                    <a:ext cx="83160" cy="1044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139920" y="3688560"/>
                    <a:ext cx="99360" cy="71280"/>
                    <a:chOff x="3139920" y="3688560"/>
                    <a:chExt cx="99360" cy="712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 flipH="1" flipV="1">
                      <a:off x="3175200" y="3688560"/>
                      <a:ext cx="64080" cy="71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H="1">
                      <a:off x="3139920" y="368856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5" name=""/>
                <p:cNvSpPr/>
                <p:nvPr/>
              </p:nvSpPr>
              <p:spPr>
                <a:xfrm flipH="1">
                  <a:off x="3336480" y="3165480"/>
                  <a:ext cx="168840" cy="14724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3067200" y="3238920"/>
                  <a:ext cx="264960" cy="44352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066840" y="3467520"/>
                  <a:ext cx="293760" cy="3650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281400" y="3296160"/>
                  <a:ext cx="164880" cy="186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 flipH="1" flipV="1">
                <a:off x="1925640" y="3160440"/>
                <a:ext cx="1370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939320" y="3353400"/>
                <a:ext cx="116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182320" y="3453120"/>
                <a:ext cx="78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1696680" y="3574440"/>
                <a:ext cx="10497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flipV="1">
                <a:off x="1896480" y="3702600"/>
                <a:ext cx="79272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1974960" y="3852720"/>
                <a:ext cx="7354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1639800" y="3967200"/>
                <a:ext cx="11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0800" y="3239280"/>
                <a:ext cx="89280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4924440" y="2514600"/>
              <a:ext cx="1570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 = 3 seco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080000">
              <a:off x="7391520" y="3243960"/>
              <a:ext cx="97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f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080000">
              <a:off x="843480" y="3312720"/>
              <a:ext cx="1178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815040" y="534672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307880"/>
            <a:ext cx="826776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 - slow down in positive direction = nega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17560" y="2514600"/>
            <a:ext cx="7323120" cy="2139120"/>
            <a:chOff x="817560" y="2514600"/>
            <a:chExt cx="7323120" cy="2139120"/>
          </a:xfrm>
        </p:grpSpPr>
        <p:sp>
          <p:nvSpPr>
            <p:cNvPr id="234" name=""/>
            <p:cNvSpPr/>
            <p:nvPr/>
          </p:nvSpPr>
          <p:spPr>
            <a:xfrm>
              <a:off x="4770000" y="35053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371600" y="3124080"/>
              <a:ext cx="1680840" cy="1055880"/>
              <a:chOff x="1371600" y="3124080"/>
              <a:chExt cx="1680840" cy="1055880"/>
            </a:xfrm>
          </p:grpSpPr>
          <p:sp>
            <p:nvSpPr>
              <p:cNvPr id="236" name=""/>
              <p:cNvSpPr/>
              <p:nvPr/>
            </p:nvSpPr>
            <p:spPr>
              <a:xfrm>
                <a:off x="1371600" y="3192840"/>
                <a:ext cx="1426320" cy="81792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00200" y="3371400"/>
                <a:ext cx="1219320" cy="482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59560" y="3124080"/>
                <a:ext cx="992880" cy="105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57400" y="3192840"/>
                <a:ext cx="176040" cy="168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57400" y="3856680"/>
                <a:ext cx="176040" cy="15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95360" y="319536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02560" y="325260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95360" y="330228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95360" y="334512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95360" y="382320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95360" y="388728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95360" y="395172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80960" y="401580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2485800" y="2514600"/>
              <a:ext cx="1297440" cy="397440"/>
              <a:chOff x="2485800" y="2514600"/>
              <a:chExt cx="1297440" cy="397440"/>
            </a:xfrm>
          </p:grpSpPr>
          <p:sp>
            <p:nvSpPr>
              <p:cNvPr id="250" name=""/>
              <p:cNvSpPr/>
              <p:nvPr/>
            </p:nvSpPr>
            <p:spPr>
              <a:xfrm>
                <a:off x="2485800" y="2514600"/>
                <a:ext cx="12974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+ dir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79640" y="2530440"/>
                <a:ext cx="6858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590560" y="4191120"/>
              <a:ext cx="1484280" cy="462600"/>
              <a:chOff x="2590560" y="4191120"/>
              <a:chExt cx="1484280" cy="462600"/>
            </a:xfrm>
          </p:grpSpPr>
          <p:sp>
            <p:nvSpPr>
              <p:cNvPr id="253" name=""/>
              <p:cNvSpPr/>
              <p:nvPr/>
            </p:nvSpPr>
            <p:spPr>
              <a:xfrm>
                <a:off x="2800440" y="4214520"/>
                <a:ext cx="1184760" cy="43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8 m/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90560" y="4191120"/>
                <a:ext cx="14842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095880" y="4175280"/>
              <a:ext cx="1251000" cy="439200"/>
              <a:chOff x="6095880" y="4175280"/>
              <a:chExt cx="1251000" cy="439200"/>
            </a:xfrm>
          </p:grpSpPr>
          <p:sp>
            <p:nvSpPr>
              <p:cNvPr id="256" name=""/>
              <p:cNvSpPr/>
              <p:nvPr/>
            </p:nvSpPr>
            <p:spPr>
              <a:xfrm>
                <a:off x="6154560" y="4175280"/>
                <a:ext cx="1192320" cy="43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5 m/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095880" y="4201920"/>
                <a:ext cx="1143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4586040" y="3546360"/>
              <a:ext cx="1027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880240" y="3147840"/>
              <a:ext cx="1531800" cy="801000"/>
              <a:chOff x="5880240" y="3147840"/>
              <a:chExt cx="1531800" cy="80100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504840" y="3147840"/>
                <a:ext cx="907200" cy="779040"/>
                <a:chOff x="6504840" y="3147840"/>
                <a:chExt cx="907200" cy="77904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6504840" y="3221280"/>
                  <a:ext cx="907200" cy="705600"/>
                  <a:chOff x="6504840" y="3221280"/>
                  <a:chExt cx="907200" cy="705600"/>
                </a:xfrm>
              </p:grpSpPr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6504840" y="3575520"/>
                    <a:ext cx="335520" cy="351360"/>
                    <a:chOff x="6504840" y="3575520"/>
                    <a:chExt cx="335520" cy="35136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 flipH="1">
                      <a:off x="6506280" y="3575520"/>
                      <a:ext cx="32976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6676200" y="3577680"/>
                      <a:ext cx="0" cy="349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504840" y="374904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555240" y="362772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>
                      <a:off x="6554880" y="3634920"/>
                      <a:ext cx="2426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6612480" y="3584880"/>
                      <a:ext cx="12852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>
                      <a:off x="6612120" y="359208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6519600" y="3684960"/>
                      <a:ext cx="314280" cy="120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V="1">
                      <a:off x="6526800" y="3699000"/>
                      <a:ext cx="30708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2" name=""/>
                  <p:cNvSpPr/>
                  <p:nvPr/>
                </p:nvSpPr>
                <p:spPr>
                  <a:xfrm flipH="1">
                    <a:off x="6675120" y="3442320"/>
                    <a:ext cx="429480" cy="3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7047720" y="3221280"/>
                    <a:ext cx="364320" cy="684360"/>
                    <a:chOff x="7047720" y="3221280"/>
                    <a:chExt cx="364320" cy="684360"/>
                  </a:xfrm>
                </p:grpSpPr>
                <p:grpSp>
                  <p:nvGrpSpPr>
                    <p:cNvPr id="274" name=""/>
                    <p:cNvGrpSpPr/>
                    <p:nvPr/>
                  </p:nvGrpSpPr>
                  <p:grpSpPr>
                    <a:xfrm>
                      <a:off x="7047720" y="3554280"/>
                      <a:ext cx="335520" cy="351360"/>
                      <a:chOff x="7047720" y="3554280"/>
                      <a:chExt cx="335520" cy="351360"/>
                    </a:xfrm>
                  </p:grpSpPr>
                  <p:sp>
                    <p:nvSpPr>
                      <p:cNvPr id="275" name=""/>
                      <p:cNvSpPr/>
                      <p:nvPr/>
                    </p:nvSpPr>
                    <p:spPr>
                      <a:xfrm flipH="1">
                        <a:off x="7048800" y="3554280"/>
                        <a:ext cx="329400" cy="346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7219080" y="3556440"/>
                        <a:ext cx="0" cy="349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7047720" y="3727800"/>
                        <a:ext cx="3355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7098120" y="3606480"/>
                        <a:ext cx="23544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 flipH="1">
                        <a:off x="7098120" y="3613320"/>
                        <a:ext cx="24228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7155360" y="3563640"/>
                        <a:ext cx="128520" cy="320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 flipH="1">
                        <a:off x="7155360" y="3570840"/>
                        <a:ext cx="135360" cy="313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7062480" y="3663720"/>
                        <a:ext cx="314280" cy="120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 flipV="1">
                        <a:off x="7069680" y="3677040"/>
                        <a:ext cx="306720" cy="114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112160" y="3392640"/>
                      <a:ext cx="0" cy="10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>
                      <a:off x="7126920" y="3221280"/>
                      <a:ext cx="284760" cy="52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6" name=""/>
                    <p:cNvGrpSpPr/>
                    <p:nvPr/>
                  </p:nvGrpSpPr>
                  <p:grpSpPr>
                    <a:xfrm>
                      <a:off x="7088040" y="3391560"/>
                      <a:ext cx="123120" cy="122040"/>
                      <a:chOff x="7088040" y="3391560"/>
                      <a:chExt cx="123120" cy="122040"/>
                    </a:xfrm>
                  </p:grpSpPr>
                  <p:sp>
                    <p:nvSpPr>
                      <p:cNvPr id="287" name=""/>
                      <p:cNvSpPr/>
                      <p:nvPr/>
                    </p:nvSpPr>
                    <p:spPr>
                      <a:xfrm flipH="1">
                        <a:off x="7087680" y="3393720"/>
                        <a:ext cx="118440" cy="11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 flipH="1">
                        <a:off x="7092360" y="3391560"/>
                        <a:ext cx="118440" cy="11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098120" y="339264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6983640" y="3742200"/>
                    <a:ext cx="99720" cy="70920"/>
                    <a:chOff x="6983640" y="3742200"/>
                    <a:chExt cx="99720" cy="7092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6983640" y="3742200"/>
                      <a:ext cx="64080" cy="70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033680" y="381312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3" name=""/>
                  <p:cNvSpPr/>
                  <p:nvPr/>
                </p:nvSpPr>
                <p:spPr>
                  <a:xfrm flipH="1">
                    <a:off x="6938640" y="3682800"/>
                    <a:ext cx="82800" cy="1044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6890760" y="3670920"/>
                    <a:ext cx="99720" cy="71280"/>
                    <a:chOff x="6890760" y="3670920"/>
                    <a:chExt cx="99720" cy="7128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flipH="1" flipV="1">
                      <a:off x="6926400" y="3670920"/>
                      <a:ext cx="64080" cy="71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flipH="1">
                      <a:off x="6890760" y="367092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7" name=""/>
                <p:cNvSpPr/>
                <p:nvPr/>
              </p:nvSpPr>
              <p:spPr>
                <a:xfrm flipH="1">
                  <a:off x="7088040" y="3147840"/>
                  <a:ext cx="169200" cy="14724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6817680" y="3221280"/>
                  <a:ext cx="265320" cy="44352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6817680" y="3449880"/>
                  <a:ext cx="294120" cy="3650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7032240" y="3278520"/>
                  <a:ext cx="165240" cy="186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 flipH="1">
                <a:off x="6273000" y="3157200"/>
                <a:ext cx="774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130080" y="3335400"/>
                <a:ext cx="724680" cy="3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6183720" y="3409920"/>
                <a:ext cx="53532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6005160" y="3553200"/>
                <a:ext cx="492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5880240" y="3695760"/>
                <a:ext cx="56052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4080" y="3838320"/>
                <a:ext cx="36792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5951520" y="3945600"/>
                <a:ext cx="610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397920" y="3221280"/>
                <a:ext cx="50688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478240" y="3160440"/>
              <a:ext cx="2020680" cy="806760"/>
              <a:chOff x="2478240" y="3160440"/>
              <a:chExt cx="2020680" cy="80676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3592440" y="3165480"/>
                <a:ext cx="906480" cy="779400"/>
                <a:chOff x="3592440" y="3165480"/>
                <a:chExt cx="906480" cy="77940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3592440" y="3238920"/>
                  <a:ext cx="906480" cy="705960"/>
                  <a:chOff x="3592440" y="3238920"/>
                  <a:chExt cx="906480" cy="70596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3592440" y="3593160"/>
                    <a:ext cx="335520" cy="351720"/>
                    <a:chOff x="3592440" y="3593160"/>
                    <a:chExt cx="335520" cy="3517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>
                      <a:off x="3593520" y="3593160"/>
                      <a:ext cx="32940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3763800" y="3595320"/>
                      <a:ext cx="0" cy="349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592440" y="376668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642480" y="3645360"/>
                      <a:ext cx="235440" cy="23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3642480" y="3652560"/>
                      <a:ext cx="2426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3699720" y="3602520"/>
                      <a:ext cx="12816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>
                      <a:off x="3700080" y="360972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606840" y="3702600"/>
                      <a:ext cx="313920" cy="12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V="1">
                      <a:off x="3614040" y="3716640"/>
                      <a:ext cx="30672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2" name=""/>
                  <p:cNvSpPr/>
                  <p:nvPr/>
                </p:nvSpPr>
                <p:spPr>
                  <a:xfrm flipH="1">
                    <a:off x="3762360" y="3459960"/>
                    <a:ext cx="429480" cy="3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4135320" y="3238920"/>
                    <a:ext cx="363600" cy="684360"/>
                    <a:chOff x="4135320" y="3238920"/>
                    <a:chExt cx="363600" cy="684360"/>
                  </a:xfrm>
                </p:grpSpPr>
                <p:grpSp>
                  <p:nvGrpSpPr>
                    <p:cNvPr id="324" name=""/>
                    <p:cNvGrpSpPr/>
                    <p:nvPr/>
                  </p:nvGrpSpPr>
                  <p:grpSpPr>
                    <a:xfrm>
                      <a:off x="4135320" y="3571920"/>
                      <a:ext cx="335160" cy="351360"/>
                      <a:chOff x="4135320" y="3571920"/>
                      <a:chExt cx="335160" cy="351360"/>
                    </a:xfrm>
                  </p:grpSpPr>
                  <p:sp>
                    <p:nvSpPr>
                      <p:cNvPr id="325" name=""/>
                      <p:cNvSpPr/>
                      <p:nvPr/>
                    </p:nvSpPr>
                    <p:spPr>
                      <a:xfrm flipH="1">
                        <a:off x="4136040" y="3571920"/>
                        <a:ext cx="329400" cy="3470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4306320" y="3574080"/>
                        <a:ext cx="0" cy="349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4135320" y="3745440"/>
                        <a:ext cx="3351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4185000" y="3624120"/>
                        <a:ext cx="23544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 flipH="1">
                        <a:off x="4185000" y="3630960"/>
                        <a:ext cx="242640" cy="235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4242240" y="3581280"/>
                        <a:ext cx="128160" cy="320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 flipH="1">
                        <a:off x="4242240" y="3588480"/>
                        <a:ext cx="135360" cy="313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4149360" y="3681360"/>
                        <a:ext cx="313920" cy="120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 flipV="1">
                        <a:off x="4156560" y="3695400"/>
                        <a:ext cx="306720" cy="113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4199400" y="3410280"/>
                      <a:ext cx="0" cy="10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>
                      <a:off x="4213800" y="3238920"/>
                      <a:ext cx="284760" cy="52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6" name=""/>
                    <p:cNvGrpSpPr/>
                    <p:nvPr/>
                  </p:nvGrpSpPr>
                  <p:grpSpPr>
                    <a:xfrm>
                      <a:off x="4175640" y="3408840"/>
                      <a:ext cx="122400" cy="123120"/>
                      <a:chOff x="4175640" y="3408840"/>
                      <a:chExt cx="122400" cy="123120"/>
                    </a:xfrm>
                  </p:grpSpPr>
                  <p:sp>
                    <p:nvSpPr>
                      <p:cNvPr id="337" name=""/>
                      <p:cNvSpPr/>
                      <p:nvPr/>
                    </p:nvSpPr>
                    <p:spPr>
                      <a:xfrm flipH="1">
                        <a:off x="4175280" y="3411360"/>
                        <a:ext cx="117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8" name=""/>
                      <p:cNvSpPr/>
                      <p:nvPr/>
                    </p:nvSpPr>
                    <p:spPr>
                      <a:xfrm flipH="1">
                        <a:off x="4179960" y="3408840"/>
                        <a:ext cx="117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4185000" y="341028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4071240" y="3759840"/>
                    <a:ext cx="99360" cy="70920"/>
                    <a:chOff x="4071240" y="3759840"/>
                    <a:chExt cx="99360" cy="7092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4071240" y="3759840"/>
                      <a:ext cx="64080" cy="70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4120920" y="383076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3" name=""/>
                  <p:cNvSpPr/>
                  <p:nvPr/>
                </p:nvSpPr>
                <p:spPr>
                  <a:xfrm flipH="1">
                    <a:off x="4025160" y="3700440"/>
                    <a:ext cx="83160" cy="1044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3978360" y="3688560"/>
                    <a:ext cx="99360" cy="71280"/>
                    <a:chOff x="3978360" y="3688560"/>
                    <a:chExt cx="99360" cy="712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flipV="1">
                      <a:off x="4013640" y="3688560"/>
                      <a:ext cx="64080" cy="71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>
                      <a:off x="3978360" y="368856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7" name=""/>
                <p:cNvSpPr/>
                <p:nvPr/>
              </p:nvSpPr>
              <p:spPr>
                <a:xfrm flipH="1">
                  <a:off x="4174920" y="3165480"/>
                  <a:ext cx="168840" cy="14724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3905640" y="3238920"/>
                  <a:ext cx="264960" cy="44352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3905280" y="3467520"/>
                  <a:ext cx="293760" cy="3650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4119840" y="3296160"/>
                  <a:ext cx="164880" cy="186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flipH="1" flipV="1">
                <a:off x="2764080" y="3160440"/>
                <a:ext cx="1370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777760" y="3353400"/>
                <a:ext cx="116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3020760" y="3453120"/>
                <a:ext cx="78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2535120" y="3574440"/>
                <a:ext cx="10497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2734920" y="3702600"/>
                <a:ext cx="79272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2813400" y="3852720"/>
                <a:ext cx="7354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478240" y="3967200"/>
                <a:ext cx="11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3099240" y="3239280"/>
                <a:ext cx="89280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763240" y="2514600"/>
              <a:ext cx="1570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 = 3 seco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080000">
              <a:off x="7345800" y="3243960"/>
              <a:ext cx="97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f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6080000">
              <a:off x="538200" y="3345480"/>
              <a:ext cx="1178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815040" y="534672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0824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3 - speed up in negative direction = nega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6440" y="2955960"/>
            <a:ext cx="129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32960" y="4724280"/>
            <a:ext cx="1277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-8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13560" y="4708440"/>
            <a:ext cx="1270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-5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00240" y="3733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43000" y="3335400"/>
            <a:ext cx="1680840" cy="1055520"/>
            <a:chOff x="1143000" y="3335400"/>
            <a:chExt cx="1680840" cy="1055520"/>
          </a:xfrm>
        </p:grpSpPr>
        <p:sp>
          <p:nvSpPr>
            <p:cNvPr id="370" name=""/>
            <p:cNvSpPr/>
            <p:nvPr/>
          </p:nvSpPr>
          <p:spPr>
            <a:xfrm>
              <a:off x="1143000" y="3404160"/>
              <a:ext cx="1426320" cy="8175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71600" y="3582720"/>
              <a:ext cx="1219320" cy="48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30960" y="3335400"/>
              <a:ext cx="992880" cy="10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28800" y="3404160"/>
              <a:ext cx="176040" cy="16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28800" y="4067640"/>
              <a:ext cx="176040" cy="15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66760" y="340668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73960" y="3463920"/>
              <a:ext cx="149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66760" y="351360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66760" y="355644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66760" y="403416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66760" y="409824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66760" y="416268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52360" y="422676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600280" y="297180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322360" y="4700520"/>
            <a:ext cx="1484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655960" y="473544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4387680" y="3774960"/>
            <a:ext cx="102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652720" y="3376440"/>
            <a:ext cx="1531800" cy="801000"/>
            <a:chOff x="5652720" y="3376440"/>
            <a:chExt cx="1531800" cy="801000"/>
          </a:xfrm>
        </p:grpSpPr>
        <p:grpSp>
          <p:nvGrpSpPr>
            <p:cNvPr id="388" name=""/>
            <p:cNvGrpSpPr/>
            <p:nvPr/>
          </p:nvGrpSpPr>
          <p:grpSpPr>
            <a:xfrm>
              <a:off x="5652720" y="3376440"/>
              <a:ext cx="907200" cy="779040"/>
              <a:chOff x="5652720" y="3376440"/>
              <a:chExt cx="907200" cy="77904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5652720" y="3449880"/>
                <a:ext cx="907200" cy="705600"/>
                <a:chOff x="5652720" y="3449880"/>
                <a:chExt cx="907200" cy="70560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6224400" y="3804120"/>
                  <a:ext cx="335520" cy="351360"/>
                  <a:chOff x="6224400" y="3804120"/>
                  <a:chExt cx="335520" cy="3513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6228720" y="3804120"/>
                    <a:ext cx="329760" cy="347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388560" y="3806280"/>
                    <a:ext cx="0" cy="34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>
                    <a:off x="6224400" y="3977640"/>
                    <a:ext cx="33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6274080" y="3856320"/>
                    <a:ext cx="2354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267240" y="3863520"/>
                    <a:ext cx="2426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>
                    <a:off x="6323760" y="3813480"/>
                    <a:ext cx="128520" cy="32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317280" y="3820680"/>
                    <a:ext cx="135360" cy="31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6230880" y="3913560"/>
                    <a:ext cx="314280" cy="12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flipV="1">
                    <a:off x="6230880" y="3927600"/>
                    <a:ext cx="307080" cy="11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0" name=""/>
                <p:cNvSpPr/>
                <p:nvPr/>
              </p:nvSpPr>
              <p:spPr>
                <a:xfrm>
                  <a:off x="5959800" y="3670920"/>
                  <a:ext cx="429480" cy="300960"/>
                </a:xfrm>
                <a:custGeom>
                  <a:avLst/>
                  <a:gdLst/>
                  <a:ahLst/>
                  <a:rect l="l" t="t" r="r" b="b"/>
                  <a:pathLst>
                    <a:path w="361" h="253">
                      <a:moveTo>
                        <a:pt x="360" y="252"/>
                      </a:moveTo>
                      <a:lnTo>
                        <a:pt x="243" y="0"/>
                      </a:lnTo>
                      <a:lnTo>
                        <a:pt x="0" y="0"/>
                      </a:lnTo>
                      <a:lnTo>
                        <a:pt x="94" y="252"/>
                      </a:lnTo>
                      <a:lnTo>
                        <a:pt x="360" y="25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1" name=""/>
                <p:cNvGrpSpPr/>
                <p:nvPr/>
              </p:nvGrpSpPr>
              <p:grpSpPr>
                <a:xfrm>
                  <a:off x="5652720" y="3449880"/>
                  <a:ext cx="364320" cy="684360"/>
                  <a:chOff x="5652720" y="3449880"/>
                  <a:chExt cx="364320" cy="684360"/>
                </a:xfrm>
              </p:grpSpPr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5681520" y="3782880"/>
                    <a:ext cx="335520" cy="351360"/>
                    <a:chOff x="5681520" y="3782880"/>
                    <a:chExt cx="335520" cy="35136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5686200" y="3782880"/>
                      <a:ext cx="329400" cy="34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845680" y="3785040"/>
                      <a:ext cx="0" cy="349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>
                      <a:off x="5681520" y="395640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>
                      <a:off x="5731200" y="383508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5724360" y="3841920"/>
                      <a:ext cx="24228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>
                      <a:off x="5780880" y="3792240"/>
                      <a:ext cx="12852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774040" y="379944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flipH="1">
                      <a:off x="5688000" y="3892320"/>
                      <a:ext cx="314280" cy="120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flipV="1">
                      <a:off x="5688360" y="3905640"/>
                      <a:ext cx="306720" cy="114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2" name=""/>
                  <p:cNvSpPr/>
                  <p:nvPr/>
                </p:nvSpPr>
                <p:spPr>
                  <a:xfrm>
                    <a:off x="5952600" y="3621240"/>
                    <a:ext cx="0" cy="10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652720" y="3449880"/>
                    <a:ext cx="28476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5853600" y="3620160"/>
                    <a:ext cx="123120" cy="122040"/>
                    <a:chOff x="5853600" y="3620160"/>
                    <a:chExt cx="123120" cy="12204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858280" y="3622320"/>
                      <a:ext cx="118440" cy="11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3312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331254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5853600" y="3620160"/>
                      <a:ext cx="118440" cy="11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7" name=""/>
                  <p:cNvSpPr/>
                  <p:nvPr/>
                </p:nvSpPr>
                <p:spPr>
                  <a:xfrm flipH="1">
                    <a:off x="5916960" y="362124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5981400" y="3970800"/>
                  <a:ext cx="99720" cy="70920"/>
                  <a:chOff x="5981400" y="3970800"/>
                  <a:chExt cx="99720" cy="709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>
                    <a:off x="6017040" y="3970800"/>
                    <a:ext cx="64080" cy="70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>
                    <a:off x="5981400" y="404172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1" name=""/>
                <p:cNvSpPr/>
                <p:nvPr/>
              </p:nvSpPr>
              <p:spPr>
                <a:xfrm>
                  <a:off x="6043320" y="3911400"/>
                  <a:ext cx="82800" cy="1044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6074280" y="3899520"/>
                  <a:ext cx="99720" cy="71280"/>
                  <a:chOff x="6074280" y="3899520"/>
                  <a:chExt cx="99720" cy="712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V="1">
                    <a:off x="6074280" y="3899520"/>
                    <a:ext cx="6408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123960" y="3899520"/>
                    <a:ext cx="50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5" name=""/>
              <p:cNvSpPr/>
              <p:nvPr/>
            </p:nvSpPr>
            <p:spPr>
              <a:xfrm>
                <a:off x="5807520" y="3376440"/>
                <a:ext cx="169200" cy="1472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981400" y="3449880"/>
                <a:ext cx="265320" cy="443520"/>
              </a:xfrm>
              <a:custGeom>
                <a:avLst/>
                <a:gdLst/>
                <a:ahLst/>
                <a:rect l="l" t="t" r="r" b="b"/>
                <a:pathLst>
                  <a:path w="223" h="373">
                    <a:moveTo>
                      <a:pt x="0" y="0"/>
                    </a:moveTo>
                    <a:lnTo>
                      <a:pt x="222" y="180"/>
                    </a:lnTo>
                    <a:lnTo>
                      <a:pt x="12" y="156"/>
                    </a:lnTo>
                    <a:lnTo>
                      <a:pt x="168" y="342"/>
                    </a:lnTo>
                    <a:lnTo>
                      <a:pt x="126" y="372"/>
                    </a:lnTo>
                    <a:lnTo>
                      <a:pt x="192" y="366"/>
                    </a:lnTo>
                    <a:lnTo>
                      <a:pt x="168" y="3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52600" y="3678480"/>
                <a:ext cx="294120" cy="365040"/>
              </a:xfrm>
              <a:custGeom>
                <a:avLst/>
                <a:gdLst/>
                <a:ahLst/>
                <a:rect l="l" t="t" r="r" b="b"/>
                <a:pathLst>
                  <a:path w="247" h="307">
                    <a:moveTo>
                      <a:pt x="246" y="0"/>
                    </a:moveTo>
                    <a:lnTo>
                      <a:pt x="78" y="120"/>
                    </a:lnTo>
                    <a:lnTo>
                      <a:pt x="54" y="276"/>
                    </a:lnTo>
                    <a:lnTo>
                      <a:pt x="0" y="306"/>
                    </a:lnTo>
                    <a:lnTo>
                      <a:pt x="54" y="300"/>
                    </a:lnTo>
                    <a:lnTo>
                      <a:pt x="48" y="2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6920" y="3507120"/>
                <a:ext cx="165240" cy="186480"/>
              </a:xfrm>
              <a:custGeom>
                <a:avLst/>
                <a:gdLst/>
                <a:ahLst/>
                <a:rect l="l" t="t" r="r" b="b"/>
                <a:pathLst>
                  <a:path w="139" h="157">
                    <a:moveTo>
                      <a:pt x="138" y="0"/>
                    </a:moveTo>
                    <a:lnTo>
                      <a:pt x="0" y="156"/>
                    </a:lnTo>
                    <a:lnTo>
                      <a:pt x="6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017040" y="3385800"/>
              <a:ext cx="7747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10000" y="3564000"/>
              <a:ext cx="72468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345720" y="3638520"/>
              <a:ext cx="53532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567120" y="3781800"/>
              <a:ext cx="492480" cy="1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624000" y="3924360"/>
              <a:ext cx="5605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602760" y="4066920"/>
              <a:ext cx="36792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502680" y="4174200"/>
              <a:ext cx="610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59960" y="3449880"/>
              <a:ext cx="5068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251080" y="3389040"/>
            <a:ext cx="2020680" cy="806760"/>
            <a:chOff x="2251080" y="3389040"/>
            <a:chExt cx="2020680" cy="806760"/>
          </a:xfrm>
        </p:grpSpPr>
        <p:grpSp>
          <p:nvGrpSpPr>
            <p:cNvPr id="438" name=""/>
            <p:cNvGrpSpPr/>
            <p:nvPr/>
          </p:nvGrpSpPr>
          <p:grpSpPr>
            <a:xfrm>
              <a:off x="2251080" y="3394080"/>
              <a:ext cx="906480" cy="779400"/>
              <a:chOff x="2251080" y="3394080"/>
              <a:chExt cx="906480" cy="77940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2251080" y="3467520"/>
                <a:ext cx="906480" cy="705960"/>
                <a:chOff x="2251080" y="3467520"/>
                <a:chExt cx="906480" cy="70596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2822040" y="3821760"/>
                  <a:ext cx="335520" cy="351720"/>
                  <a:chOff x="2822040" y="3821760"/>
                  <a:chExt cx="335520" cy="3517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2826720" y="3821760"/>
                    <a:ext cx="329400" cy="347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986200" y="3823920"/>
                    <a:ext cx="0" cy="349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2822040" y="3995280"/>
                    <a:ext cx="33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>
                    <a:off x="2872080" y="3873960"/>
                    <a:ext cx="235440" cy="23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864880" y="3881160"/>
                    <a:ext cx="2426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>
                    <a:off x="2922120" y="3831120"/>
                    <a:ext cx="128160" cy="32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914560" y="3838320"/>
                    <a:ext cx="135360" cy="31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2829240" y="3931200"/>
                    <a:ext cx="313920" cy="12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2829240" y="3945240"/>
                    <a:ext cx="306720" cy="11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0" name=""/>
                <p:cNvSpPr/>
                <p:nvPr/>
              </p:nvSpPr>
              <p:spPr>
                <a:xfrm>
                  <a:off x="2557800" y="3688560"/>
                  <a:ext cx="429480" cy="300960"/>
                </a:xfrm>
                <a:custGeom>
                  <a:avLst/>
                  <a:gdLst/>
                  <a:ahLst/>
                  <a:rect l="l" t="t" r="r" b="b"/>
                  <a:pathLst>
                    <a:path w="361" h="253">
                      <a:moveTo>
                        <a:pt x="360" y="252"/>
                      </a:moveTo>
                      <a:lnTo>
                        <a:pt x="243" y="0"/>
                      </a:lnTo>
                      <a:lnTo>
                        <a:pt x="0" y="0"/>
                      </a:lnTo>
                      <a:lnTo>
                        <a:pt x="94" y="252"/>
                      </a:lnTo>
                      <a:lnTo>
                        <a:pt x="360" y="25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" name=""/>
                <p:cNvGrpSpPr/>
                <p:nvPr/>
              </p:nvGrpSpPr>
              <p:grpSpPr>
                <a:xfrm>
                  <a:off x="2251080" y="3467520"/>
                  <a:ext cx="363960" cy="684360"/>
                  <a:chOff x="2251080" y="3467520"/>
                  <a:chExt cx="363960" cy="684360"/>
                </a:xfrm>
              </p:grpSpPr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2279520" y="3800520"/>
                    <a:ext cx="335520" cy="351360"/>
                    <a:chOff x="2279520" y="3800520"/>
                    <a:chExt cx="335520" cy="35136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2283840" y="3800520"/>
                      <a:ext cx="32976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443680" y="3802680"/>
                      <a:ext cx="0" cy="349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flipH="1">
                      <a:off x="2279520" y="397404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flipH="1">
                      <a:off x="2329200" y="385272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2322000" y="3859560"/>
                      <a:ext cx="243000" cy="23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H="1">
                      <a:off x="2378880" y="3809880"/>
                      <a:ext cx="12852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2372400" y="381708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>
                      <a:off x="2286000" y="3909960"/>
                      <a:ext cx="314280" cy="120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H="1" flipV="1">
                      <a:off x="2286000" y="3924000"/>
                      <a:ext cx="30708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550600" y="3638880"/>
                    <a:ext cx="0" cy="10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251080" y="3467520"/>
                    <a:ext cx="28476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2451960" y="3637440"/>
                    <a:ext cx="122400" cy="123120"/>
                    <a:chOff x="2451960" y="3637440"/>
                    <a:chExt cx="122400" cy="12312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2456640" y="3639960"/>
                      <a:ext cx="117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3312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331254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2451960" y="3637440"/>
                      <a:ext cx="117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7" name=""/>
                  <p:cNvSpPr/>
                  <p:nvPr/>
                </p:nvSpPr>
                <p:spPr>
                  <a:xfrm flipH="1">
                    <a:off x="2514960" y="363888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2579400" y="3988440"/>
                  <a:ext cx="99360" cy="70920"/>
                  <a:chOff x="2579400" y="3988440"/>
                  <a:chExt cx="99360" cy="709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flipH="1">
                    <a:off x="2614680" y="3988440"/>
                    <a:ext cx="64080" cy="70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>
                    <a:off x="2579400" y="405936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1" name=""/>
                <p:cNvSpPr/>
                <p:nvPr/>
              </p:nvSpPr>
              <p:spPr>
                <a:xfrm>
                  <a:off x="2640960" y="3929040"/>
                  <a:ext cx="83160" cy="1044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2672280" y="3917160"/>
                  <a:ext cx="99360" cy="71280"/>
                  <a:chOff x="2672280" y="3917160"/>
                  <a:chExt cx="99360" cy="712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flipV="1">
                    <a:off x="2672280" y="3917160"/>
                    <a:ext cx="6408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721960" y="391716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5" name=""/>
              <p:cNvSpPr/>
              <p:nvPr/>
            </p:nvSpPr>
            <p:spPr>
              <a:xfrm>
                <a:off x="2405520" y="3394080"/>
                <a:ext cx="168840" cy="1472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579400" y="3467520"/>
                <a:ext cx="265320" cy="443520"/>
              </a:xfrm>
              <a:custGeom>
                <a:avLst/>
                <a:gdLst/>
                <a:ahLst/>
                <a:rect l="l" t="t" r="r" b="b"/>
                <a:pathLst>
                  <a:path w="223" h="373">
                    <a:moveTo>
                      <a:pt x="0" y="0"/>
                    </a:moveTo>
                    <a:lnTo>
                      <a:pt x="222" y="180"/>
                    </a:lnTo>
                    <a:lnTo>
                      <a:pt x="12" y="156"/>
                    </a:lnTo>
                    <a:lnTo>
                      <a:pt x="168" y="342"/>
                    </a:lnTo>
                    <a:lnTo>
                      <a:pt x="126" y="372"/>
                    </a:lnTo>
                    <a:lnTo>
                      <a:pt x="192" y="366"/>
                    </a:lnTo>
                    <a:lnTo>
                      <a:pt x="168" y="3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550600" y="3696120"/>
                <a:ext cx="293760" cy="365040"/>
              </a:xfrm>
              <a:custGeom>
                <a:avLst/>
                <a:gdLst/>
                <a:ahLst/>
                <a:rect l="l" t="t" r="r" b="b"/>
                <a:pathLst>
                  <a:path w="247" h="307">
                    <a:moveTo>
                      <a:pt x="246" y="0"/>
                    </a:moveTo>
                    <a:lnTo>
                      <a:pt x="78" y="120"/>
                    </a:lnTo>
                    <a:lnTo>
                      <a:pt x="54" y="276"/>
                    </a:lnTo>
                    <a:lnTo>
                      <a:pt x="0" y="306"/>
                    </a:lnTo>
                    <a:lnTo>
                      <a:pt x="54" y="300"/>
                    </a:lnTo>
                    <a:lnTo>
                      <a:pt x="48" y="2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64920" y="3524760"/>
                <a:ext cx="164880" cy="186480"/>
              </a:xfrm>
              <a:custGeom>
                <a:avLst/>
                <a:gdLst/>
                <a:ahLst/>
                <a:rect l="l" t="t" r="r" b="b"/>
                <a:pathLst>
                  <a:path w="139" h="157">
                    <a:moveTo>
                      <a:pt x="138" y="0"/>
                    </a:moveTo>
                    <a:lnTo>
                      <a:pt x="0" y="156"/>
                    </a:lnTo>
                    <a:lnTo>
                      <a:pt x="6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 flipV="1">
              <a:off x="2615040" y="3389040"/>
              <a:ext cx="13712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08000" y="3582000"/>
              <a:ext cx="116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43360" y="3681720"/>
              <a:ext cx="78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164760" y="3803040"/>
              <a:ext cx="105012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222000" y="3931200"/>
              <a:ext cx="7927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200760" y="4081320"/>
              <a:ext cx="73548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00680" y="41958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7600" y="3467880"/>
              <a:ext cx="892800" cy="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5564880" y="2743200"/>
            <a:ext cx="1570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= 3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080000">
            <a:off x="259200" y="3624840"/>
            <a:ext cx="97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6080000">
            <a:off x="6845760" y="3557160"/>
            <a:ext cx="117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Times New Roman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16480" y="5346720"/>
            <a:ext cx="49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ppening to speed?, velo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6248880" y="3657600"/>
            <a:ext cx="1680840" cy="1055520"/>
            <a:chOff x="6248880" y="3657600"/>
            <a:chExt cx="1680840" cy="1055520"/>
          </a:xfrm>
        </p:grpSpPr>
        <p:sp>
          <p:nvSpPr>
            <p:cNvPr id="492" name=""/>
            <p:cNvSpPr/>
            <p:nvPr/>
          </p:nvSpPr>
          <p:spPr>
            <a:xfrm flipH="1">
              <a:off x="6503400" y="3726360"/>
              <a:ext cx="1426320" cy="8175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481440" y="3904920"/>
              <a:ext cx="1219320" cy="48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248880" y="3657600"/>
              <a:ext cx="992880" cy="10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067520" y="3726360"/>
              <a:ext cx="176040" cy="16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7067520" y="4389840"/>
              <a:ext cx="176040" cy="15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855840" y="372888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849000" y="3786120"/>
              <a:ext cx="149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55840" y="383580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855840" y="387864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855840" y="435636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55840" y="442044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855840" y="448488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870240" y="454896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990720"/>
            <a:ext cx="8267760" cy="443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 - slow down in negative direction = posi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438280" y="5030640"/>
            <a:ext cx="40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571720" y="5030640"/>
            <a:ext cx="15987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63800" y="3232080"/>
            <a:ext cx="684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94040" y="4035600"/>
            <a:ext cx="1028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333880" y="3886200"/>
            <a:ext cx="1531440" cy="801360"/>
            <a:chOff x="2333880" y="3886200"/>
            <a:chExt cx="1531440" cy="801360"/>
          </a:xfrm>
        </p:grpSpPr>
        <p:grpSp>
          <p:nvGrpSpPr>
            <p:cNvPr id="514" name=""/>
            <p:cNvGrpSpPr/>
            <p:nvPr/>
          </p:nvGrpSpPr>
          <p:grpSpPr>
            <a:xfrm>
              <a:off x="2333880" y="3886200"/>
              <a:ext cx="906480" cy="779040"/>
              <a:chOff x="2333880" y="3886200"/>
              <a:chExt cx="906480" cy="77904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333880" y="3959640"/>
                <a:ext cx="906480" cy="705600"/>
                <a:chOff x="2333880" y="3959640"/>
                <a:chExt cx="906480" cy="70560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2904840" y="4313880"/>
                  <a:ext cx="335520" cy="351360"/>
                  <a:chOff x="2904840" y="4313880"/>
                  <a:chExt cx="335520" cy="35136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2909520" y="4313880"/>
                    <a:ext cx="329400" cy="346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069000" y="4316040"/>
                    <a:ext cx="0" cy="34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>
                    <a:off x="2904840" y="4487400"/>
                    <a:ext cx="33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>
                    <a:off x="2954880" y="4366080"/>
                    <a:ext cx="2354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947680" y="4372920"/>
                    <a:ext cx="2426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>
                    <a:off x="3004920" y="4323240"/>
                    <a:ext cx="128160" cy="32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997360" y="4330440"/>
                    <a:ext cx="135360" cy="31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>
                    <a:off x="2912040" y="4423320"/>
                    <a:ext cx="313920" cy="12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flipV="1">
                    <a:off x="2912040" y="4436640"/>
                    <a:ext cx="30672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2640600" y="4180680"/>
                  <a:ext cx="429480" cy="300960"/>
                </a:xfrm>
                <a:custGeom>
                  <a:avLst/>
                  <a:gdLst/>
                  <a:ahLst/>
                  <a:rect l="l" t="t" r="r" b="b"/>
                  <a:pathLst>
                    <a:path w="361" h="253">
                      <a:moveTo>
                        <a:pt x="360" y="252"/>
                      </a:moveTo>
                      <a:lnTo>
                        <a:pt x="243" y="0"/>
                      </a:lnTo>
                      <a:lnTo>
                        <a:pt x="0" y="0"/>
                      </a:lnTo>
                      <a:lnTo>
                        <a:pt x="94" y="252"/>
                      </a:lnTo>
                      <a:lnTo>
                        <a:pt x="360" y="25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2333880" y="3959640"/>
                  <a:ext cx="363960" cy="684360"/>
                  <a:chOff x="2333880" y="3959640"/>
                  <a:chExt cx="363960" cy="684360"/>
                </a:xfrm>
              </p:grpSpPr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362320" y="4292280"/>
                    <a:ext cx="335520" cy="351720"/>
                    <a:chOff x="2362320" y="4292280"/>
                    <a:chExt cx="335520" cy="3517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2367000" y="4292280"/>
                      <a:ext cx="32940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2526480" y="4294440"/>
                      <a:ext cx="0" cy="349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H="1">
                      <a:off x="2362320" y="446580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>
                      <a:off x="2412360" y="434484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2405160" y="4351680"/>
                      <a:ext cx="2426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H="1">
                      <a:off x="2462400" y="4301640"/>
                      <a:ext cx="12816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2454840" y="430884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>
                      <a:off x="2369520" y="4401720"/>
                      <a:ext cx="313920" cy="12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flipV="1">
                      <a:off x="2369520" y="4415760"/>
                      <a:ext cx="30672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8" name=""/>
                  <p:cNvSpPr/>
                  <p:nvPr/>
                </p:nvSpPr>
                <p:spPr>
                  <a:xfrm>
                    <a:off x="2633400" y="4131000"/>
                    <a:ext cx="0" cy="10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33880" y="3959640"/>
                    <a:ext cx="28476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2534760" y="4129200"/>
                    <a:ext cx="122400" cy="123120"/>
                    <a:chOff x="2534760" y="4129200"/>
                    <a:chExt cx="122400" cy="12312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2539440" y="4131720"/>
                      <a:ext cx="117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3312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331254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2534760" y="4129200"/>
                      <a:ext cx="117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3" name=""/>
                  <p:cNvSpPr/>
                  <p:nvPr/>
                </p:nvSpPr>
                <p:spPr>
                  <a:xfrm flipH="1">
                    <a:off x="2597760" y="413100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2662200" y="4480200"/>
                  <a:ext cx="99360" cy="71280"/>
                  <a:chOff x="2662200" y="4480200"/>
                  <a:chExt cx="99360" cy="7128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H="1">
                    <a:off x="2697480" y="4480200"/>
                    <a:ext cx="6408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>
                    <a:off x="2662200" y="455148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2724120" y="4421160"/>
                  <a:ext cx="83160" cy="1044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8" name=""/>
                <p:cNvGrpSpPr/>
                <p:nvPr/>
              </p:nvGrpSpPr>
              <p:grpSpPr>
                <a:xfrm>
                  <a:off x="2755080" y="4408920"/>
                  <a:ext cx="99360" cy="70920"/>
                  <a:chOff x="2755080" y="4408920"/>
                  <a:chExt cx="99360" cy="7092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V="1">
                    <a:off x="2755080" y="4408920"/>
                    <a:ext cx="64080" cy="70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804760" y="440928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1" name=""/>
              <p:cNvSpPr/>
              <p:nvPr/>
            </p:nvSpPr>
            <p:spPr>
              <a:xfrm>
                <a:off x="2488320" y="3886200"/>
                <a:ext cx="168840" cy="1472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62200" y="3960000"/>
                <a:ext cx="264960" cy="443520"/>
              </a:xfrm>
              <a:custGeom>
                <a:avLst/>
                <a:gdLst/>
                <a:ahLst/>
                <a:rect l="l" t="t" r="r" b="b"/>
                <a:pathLst>
                  <a:path w="223" h="373">
                    <a:moveTo>
                      <a:pt x="0" y="0"/>
                    </a:moveTo>
                    <a:lnTo>
                      <a:pt x="222" y="180"/>
                    </a:lnTo>
                    <a:lnTo>
                      <a:pt x="12" y="156"/>
                    </a:lnTo>
                    <a:lnTo>
                      <a:pt x="168" y="342"/>
                    </a:lnTo>
                    <a:lnTo>
                      <a:pt x="126" y="372"/>
                    </a:lnTo>
                    <a:lnTo>
                      <a:pt x="192" y="366"/>
                    </a:lnTo>
                    <a:lnTo>
                      <a:pt x="168" y="3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3760" y="4188240"/>
                <a:ext cx="293760" cy="365040"/>
              </a:xfrm>
              <a:custGeom>
                <a:avLst/>
                <a:gdLst/>
                <a:ahLst/>
                <a:rect l="l" t="t" r="r" b="b"/>
                <a:pathLst>
                  <a:path w="247" h="307">
                    <a:moveTo>
                      <a:pt x="246" y="0"/>
                    </a:moveTo>
                    <a:lnTo>
                      <a:pt x="78" y="120"/>
                    </a:lnTo>
                    <a:lnTo>
                      <a:pt x="54" y="276"/>
                    </a:lnTo>
                    <a:lnTo>
                      <a:pt x="0" y="306"/>
                    </a:lnTo>
                    <a:lnTo>
                      <a:pt x="54" y="300"/>
                    </a:lnTo>
                    <a:lnTo>
                      <a:pt x="48" y="2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47720" y="4016880"/>
                <a:ext cx="165240" cy="186840"/>
              </a:xfrm>
              <a:custGeom>
                <a:avLst/>
                <a:gdLst/>
                <a:ahLst/>
                <a:rect l="l" t="t" r="r" b="b"/>
                <a:pathLst>
                  <a:path w="139" h="157">
                    <a:moveTo>
                      <a:pt x="138" y="0"/>
                    </a:moveTo>
                    <a:lnTo>
                      <a:pt x="0" y="156"/>
                    </a:lnTo>
                    <a:lnTo>
                      <a:pt x="6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2697840" y="3895560"/>
              <a:ext cx="7747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90800" y="4074120"/>
              <a:ext cx="72468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026520" y="4148640"/>
              <a:ext cx="53532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3247920" y="4291200"/>
              <a:ext cx="492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304800" y="4434120"/>
              <a:ext cx="5605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283560" y="4576680"/>
              <a:ext cx="36756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183480" y="4683960"/>
              <a:ext cx="61020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40760" y="3960000"/>
              <a:ext cx="5068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071680" y="3703320"/>
            <a:ext cx="2021040" cy="806760"/>
            <a:chOff x="5071680" y="3703320"/>
            <a:chExt cx="2021040" cy="806760"/>
          </a:xfrm>
        </p:grpSpPr>
        <p:grpSp>
          <p:nvGrpSpPr>
            <p:cNvPr id="564" name=""/>
            <p:cNvGrpSpPr/>
            <p:nvPr/>
          </p:nvGrpSpPr>
          <p:grpSpPr>
            <a:xfrm>
              <a:off x="5071680" y="3708000"/>
              <a:ext cx="906480" cy="779040"/>
              <a:chOff x="5071680" y="3708000"/>
              <a:chExt cx="906480" cy="77904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5071680" y="3781440"/>
                <a:ext cx="906480" cy="705600"/>
                <a:chOff x="5071680" y="3781440"/>
                <a:chExt cx="906480" cy="705600"/>
              </a:xfrm>
            </p:grpSpPr>
            <p:grpSp>
              <p:nvGrpSpPr>
                <p:cNvPr id="566" name=""/>
                <p:cNvGrpSpPr/>
                <p:nvPr/>
              </p:nvGrpSpPr>
              <p:grpSpPr>
                <a:xfrm>
                  <a:off x="5642640" y="4135680"/>
                  <a:ext cx="335520" cy="351360"/>
                  <a:chOff x="5642640" y="4135680"/>
                  <a:chExt cx="335520" cy="3513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5647320" y="4135680"/>
                    <a:ext cx="329400" cy="347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5806800" y="4137840"/>
                    <a:ext cx="0" cy="34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5642640" y="4309200"/>
                    <a:ext cx="33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5692680" y="4187880"/>
                    <a:ext cx="2354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685480" y="4194720"/>
                    <a:ext cx="242640" cy="23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5742720" y="4145040"/>
                    <a:ext cx="128160" cy="32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735160" y="4152240"/>
                    <a:ext cx="135360" cy="31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5649840" y="4245120"/>
                    <a:ext cx="313920" cy="12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flipV="1">
                    <a:off x="5649840" y="4259160"/>
                    <a:ext cx="306720" cy="11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6" name=""/>
                <p:cNvSpPr/>
                <p:nvPr/>
              </p:nvSpPr>
              <p:spPr>
                <a:xfrm>
                  <a:off x="5378760" y="4002480"/>
                  <a:ext cx="429120" cy="300960"/>
                </a:xfrm>
                <a:custGeom>
                  <a:avLst/>
                  <a:gdLst/>
                  <a:ahLst/>
                  <a:rect l="l" t="t" r="r" b="b"/>
                  <a:pathLst>
                    <a:path w="361" h="253">
                      <a:moveTo>
                        <a:pt x="360" y="252"/>
                      </a:moveTo>
                      <a:lnTo>
                        <a:pt x="243" y="0"/>
                      </a:lnTo>
                      <a:lnTo>
                        <a:pt x="0" y="0"/>
                      </a:lnTo>
                      <a:lnTo>
                        <a:pt x="94" y="252"/>
                      </a:lnTo>
                      <a:lnTo>
                        <a:pt x="360" y="25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7" name=""/>
                <p:cNvGrpSpPr/>
                <p:nvPr/>
              </p:nvGrpSpPr>
              <p:grpSpPr>
                <a:xfrm>
                  <a:off x="5071680" y="3781440"/>
                  <a:ext cx="363600" cy="684360"/>
                  <a:chOff x="5071680" y="3781440"/>
                  <a:chExt cx="363600" cy="684360"/>
                </a:xfrm>
              </p:grpSpPr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100120" y="4114440"/>
                    <a:ext cx="335160" cy="351360"/>
                    <a:chOff x="5100120" y="4114440"/>
                    <a:chExt cx="335160" cy="351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5104800" y="4114440"/>
                      <a:ext cx="329400" cy="34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5264280" y="4116240"/>
                      <a:ext cx="0" cy="349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flipH="1">
                      <a:off x="5100120" y="4287600"/>
                      <a:ext cx="335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flipH="1">
                      <a:off x="5150160" y="416664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5142960" y="4173480"/>
                      <a:ext cx="2426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flipH="1">
                      <a:off x="5200200" y="4123800"/>
                      <a:ext cx="12816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5193000" y="413064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flipH="1">
                      <a:off x="5107320" y="4223520"/>
                      <a:ext cx="313920" cy="120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flipH="1" flipV="1">
                      <a:off x="5107320" y="4237560"/>
                      <a:ext cx="30672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8" name=""/>
                  <p:cNvSpPr/>
                  <p:nvPr/>
                </p:nvSpPr>
                <p:spPr>
                  <a:xfrm>
                    <a:off x="5371200" y="3952800"/>
                    <a:ext cx="0" cy="10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5071680" y="3781440"/>
                    <a:ext cx="28476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272560" y="3951000"/>
                    <a:ext cx="122400" cy="123120"/>
                    <a:chOff x="5272560" y="3951000"/>
                    <a:chExt cx="122400" cy="12312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5277240" y="3953520"/>
                      <a:ext cx="117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3312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331254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5272560" y="3951000"/>
                      <a:ext cx="1184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3" name=""/>
                  <p:cNvSpPr/>
                  <p:nvPr/>
                </p:nvSpPr>
                <p:spPr>
                  <a:xfrm flipH="1">
                    <a:off x="5335920" y="395280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5400000" y="4302000"/>
                  <a:ext cx="99360" cy="71280"/>
                  <a:chOff x="5400000" y="4302000"/>
                  <a:chExt cx="99360" cy="712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H="1">
                    <a:off x="5435280" y="4302000"/>
                    <a:ext cx="6408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5400000" y="437328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7" name=""/>
                <p:cNvSpPr/>
                <p:nvPr/>
              </p:nvSpPr>
              <p:spPr>
                <a:xfrm>
                  <a:off x="5461920" y="4242960"/>
                  <a:ext cx="83160" cy="1044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8" name=""/>
                <p:cNvGrpSpPr/>
                <p:nvPr/>
              </p:nvGrpSpPr>
              <p:grpSpPr>
                <a:xfrm>
                  <a:off x="5492880" y="4230720"/>
                  <a:ext cx="99360" cy="70920"/>
                  <a:chOff x="5492880" y="4230720"/>
                  <a:chExt cx="99360" cy="7092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 flipV="1">
                    <a:off x="5492880" y="4230720"/>
                    <a:ext cx="64080" cy="70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542560" y="423108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1" name=""/>
              <p:cNvSpPr/>
              <p:nvPr/>
            </p:nvSpPr>
            <p:spPr>
              <a:xfrm>
                <a:off x="5226480" y="3708000"/>
                <a:ext cx="168840" cy="1472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00000" y="3781800"/>
                <a:ext cx="264960" cy="443520"/>
              </a:xfrm>
              <a:custGeom>
                <a:avLst/>
                <a:gdLst/>
                <a:ahLst/>
                <a:rect l="l" t="t" r="r" b="b"/>
                <a:pathLst>
                  <a:path w="223" h="373">
                    <a:moveTo>
                      <a:pt x="0" y="0"/>
                    </a:moveTo>
                    <a:lnTo>
                      <a:pt x="222" y="180"/>
                    </a:lnTo>
                    <a:lnTo>
                      <a:pt x="12" y="156"/>
                    </a:lnTo>
                    <a:lnTo>
                      <a:pt x="168" y="342"/>
                    </a:lnTo>
                    <a:lnTo>
                      <a:pt x="126" y="372"/>
                    </a:lnTo>
                    <a:lnTo>
                      <a:pt x="192" y="366"/>
                    </a:lnTo>
                    <a:lnTo>
                      <a:pt x="168" y="3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371560" y="4010040"/>
                <a:ext cx="293760" cy="365040"/>
              </a:xfrm>
              <a:custGeom>
                <a:avLst/>
                <a:gdLst/>
                <a:ahLst/>
                <a:rect l="l" t="t" r="r" b="b"/>
                <a:pathLst>
                  <a:path w="247" h="307">
                    <a:moveTo>
                      <a:pt x="246" y="0"/>
                    </a:moveTo>
                    <a:lnTo>
                      <a:pt x="78" y="120"/>
                    </a:lnTo>
                    <a:lnTo>
                      <a:pt x="54" y="276"/>
                    </a:lnTo>
                    <a:lnTo>
                      <a:pt x="0" y="306"/>
                    </a:lnTo>
                    <a:lnTo>
                      <a:pt x="54" y="300"/>
                    </a:lnTo>
                    <a:lnTo>
                      <a:pt x="48" y="2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285880" y="3838680"/>
                <a:ext cx="164880" cy="186840"/>
              </a:xfrm>
              <a:custGeom>
                <a:avLst/>
                <a:gdLst/>
                <a:ahLst/>
                <a:rect l="l" t="t" r="r" b="b"/>
                <a:pathLst>
                  <a:path w="139" h="157">
                    <a:moveTo>
                      <a:pt x="138" y="0"/>
                    </a:moveTo>
                    <a:lnTo>
                      <a:pt x="0" y="156"/>
                    </a:lnTo>
                    <a:lnTo>
                      <a:pt x="6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 flipV="1">
              <a:off x="5436000" y="3703320"/>
              <a:ext cx="13712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28960" y="3895920"/>
              <a:ext cx="116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64320" y="3996000"/>
              <a:ext cx="78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85720" y="4116960"/>
              <a:ext cx="1049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042960" y="4245840"/>
              <a:ext cx="792720" cy="2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21720" y="4395240"/>
              <a:ext cx="73548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21280" y="4510080"/>
              <a:ext cx="11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78560" y="3782160"/>
              <a:ext cx="89280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 rot="16080000">
            <a:off x="945000" y="3853440"/>
            <a:ext cx="97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080000">
            <a:off x="7701480" y="3879360"/>
            <a:ext cx="117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Times New Roman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4160" y="3276720"/>
            <a:ext cx="129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80680" y="5045040"/>
            <a:ext cx="1277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-5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61280" y="5029200"/>
            <a:ext cx="1270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-8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12600" y="3063960"/>
            <a:ext cx="1570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= 3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85160" y="5562720"/>
            <a:ext cx="49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ppening to speed?, velo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130824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5 - reverse directions from pos to neg = nega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39400" y="5486400"/>
            <a:ext cx="11682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-1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5410080"/>
            <a:ext cx="12139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+1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904560" y="428148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597680" y="3581280"/>
            <a:ext cx="11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1600" y="3505320"/>
            <a:ext cx="139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= 3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060920" y="2362320"/>
            <a:ext cx="6400440" cy="2590200"/>
            <a:chOff x="1060920" y="2362320"/>
            <a:chExt cx="6400440" cy="2590200"/>
          </a:xfrm>
        </p:grpSpPr>
        <p:sp>
          <p:nvSpPr>
            <p:cNvPr id="630" name=""/>
            <p:cNvSpPr/>
            <p:nvPr/>
          </p:nvSpPr>
          <p:spPr>
            <a:xfrm flipH="1">
              <a:off x="5510520" y="4952520"/>
              <a:ext cx="974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670400" y="4952520"/>
              <a:ext cx="1031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450600" y="3542040"/>
              <a:ext cx="1031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95520" y="2362320"/>
              <a:ext cx="687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5299560" y="3126600"/>
              <a:ext cx="1536120" cy="1232280"/>
              <a:chOff x="5299560" y="3126600"/>
              <a:chExt cx="1536120" cy="123228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5299560" y="3126600"/>
                <a:ext cx="909000" cy="1198440"/>
                <a:chOff x="5299560" y="3126600"/>
                <a:chExt cx="909000" cy="11984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5299560" y="3240000"/>
                  <a:ext cx="909000" cy="1085040"/>
                  <a:chOff x="5299560" y="3240000"/>
                  <a:chExt cx="909000" cy="108504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872320" y="3784320"/>
                    <a:ext cx="336240" cy="540720"/>
                    <a:chOff x="5872320" y="3784320"/>
                    <a:chExt cx="336240" cy="54072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5876640" y="3784320"/>
                      <a:ext cx="330480" cy="53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6036480" y="3787920"/>
                      <a:ext cx="0" cy="537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>
                      <a:off x="5872320" y="4051080"/>
                      <a:ext cx="336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flipH="1">
                      <a:off x="5922360" y="3864600"/>
                      <a:ext cx="236160" cy="36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5915160" y="3875760"/>
                      <a:ext cx="243000" cy="36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>
                      <a:off x="5972040" y="3799080"/>
                      <a:ext cx="128520" cy="492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5965200" y="3809880"/>
                      <a:ext cx="135720" cy="482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flipH="1">
                      <a:off x="5879160" y="3952440"/>
                      <a:ext cx="314640" cy="186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flipV="1">
                      <a:off x="5878800" y="3974400"/>
                      <a:ext cx="307800" cy="174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7" name=""/>
                  <p:cNvSpPr/>
                  <p:nvPr/>
                </p:nvSpPr>
                <p:spPr>
                  <a:xfrm>
                    <a:off x="5607360" y="3579840"/>
                    <a:ext cx="430920" cy="46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299560" y="3240000"/>
                    <a:ext cx="364680" cy="1051920"/>
                    <a:chOff x="5299560" y="3240000"/>
                    <a:chExt cx="364680" cy="1051920"/>
                  </a:xfrm>
                </p:grpSpPr>
                <p:grpSp>
                  <p:nvGrpSpPr>
                    <p:cNvPr id="649" name=""/>
                    <p:cNvGrpSpPr/>
                    <p:nvPr/>
                  </p:nvGrpSpPr>
                  <p:grpSpPr>
                    <a:xfrm>
                      <a:off x="5327640" y="3751560"/>
                      <a:ext cx="336600" cy="540360"/>
                      <a:chOff x="5327640" y="3751560"/>
                      <a:chExt cx="336600" cy="540360"/>
                    </a:xfrm>
                  </p:grpSpPr>
                  <p:sp>
                    <p:nvSpPr>
                      <p:cNvPr id="650" name=""/>
                      <p:cNvSpPr/>
                      <p:nvPr/>
                    </p:nvSpPr>
                    <p:spPr>
                      <a:xfrm>
                        <a:off x="5332680" y="3751560"/>
                        <a:ext cx="330120" cy="533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1" name=""/>
                      <p:cNvSpPr/>
                      <p:nvPr/>
                    </p:nvSpPr>
                    <p:spPr>
                      <a:xfrm>
                        <a:off x="5492520" y="3755160"/>
                        <a:ext cx="0" cy="536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2" name=""/>
                      <p:cNvSpPr/>
                      <p:nvPr/>
                    </p:nvSpPr>
                    <p:spPr>
                      <a:xfrm flipH="1">
                        <a:off x="5327640" y="4018320"/>
                        <a:ext cx="3366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3" name=""/>
                      <p:cNvSpPr/>
                      <p:nvPr/>
                    </p:nvSpPr>
                    <p:spPr>
                      <a:xfrm flipH="1">
                        <a:off x="5378040" y="3831840"/>
                        <a:ext cx="236160" cy="36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4" name=""/>
                      <p:cNvSpPr/>
                      <p:nvPr/>
                    </p:nvSpPr>
                    <p:spPr>
                      <a:xfrm>
                        <a:off x="5370840" y="3842640"/>
                        <a:ext cx="243000" cy="361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5" name=""/>
                      <p:cNvSpPr/>
                      <p:nvPr/>
                    </p:nvSpPr>
                    <p:spPr>
                      <a:xfrm flipH="1">
                        <a:off x="5428080" y="3765960"/>
                        <a:ext cx="128880" cy="493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5420880" y="3777120"/>
                        <a:ext cx="136080" cy="482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7" name=""/>
                      <p:cNvSpPr/>
                      <p:nvPr/>
                    </p:nvSpPr>
                    <p:spPr>
                      <a:xfrm flipH="1">
                        <a:off x="5334480" y="3919680"/>
                        <a:ext cx="315000" cy="185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8" name=""/>
                      <p:cNvSpPr/>
                      <p:nvPr/>
                    </p:nvSpPr>
                    <p:spPr>
                      <a:xfrm flipH="1" flipV="1">
                        <a:off x="5334480" y="3941640"/>
                        <a:ext cx="307800" cy="174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5599800" y="3503160"/>
                      <a:ext cx="0" cy="164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5299560" y="3240000"/>
                      <a:ext cx="285480" cy="81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1" name=""/>
                    <p:cNvGrpSpPr/>
                    <p:nvPr/>
                  </p:nvGrpSpPr>
                  <p:grpSpPr>
                    <a:xfrm>
                      <a:off x="5500800" y="3501360"/>
                      <a:ext cx="123120" cy="188280"/>
                      <a:chOff x="5500800" y="3501360"/>
                      <a:chExt cx="123120" cy="188280"/>
                    </a:xfrm>
                  </p:grpSpPr>
                  <p:sp>
                    <p:nvSpPr>
                      <p:cNvPr id="662" name=""/>
                      <p:cNvSpPr/>
                      <p:nvPr/>
                    </p:nvSpPr>
                    <p:spPr>
                      <a:xfrm>
                        <a:off x="5505480" y="3504960"/>
                        <a:ext cx="118440" cy="18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" name=""/>
                      <p:cNvSpPr/>
                      <p:nvPr/>
                    </p:nvSpPr>
                    <p:spPr>
                      <a:xfrm>
                        <a:off x="5500800" y="3501360"/>
                        <a:ext cx="11844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64" name=""/>
                    <p:cNvSpPr/>
                    <p:nvPr/>
                  </p:nvSpPr>
                  <p:spPr>
                    <a:xfrm flipH="1">
                      <a:off x="5563800" y="350316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5628240" y="4040640"/>
                    <a:ext cx="100440" cy="109080"/>
                    <a:chOff x="5628240" y="4040640"/>
                    <a:chExt cx="100440" cy="10908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flipH="1">
                      <a:off x="5664240" y="4040640"/>
                      <a:ext cx="64440" cy="109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flipH="1">
                      <a:off x="5628240" y="414972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8" name=""/>
                  <p:cNvSpPr/>
                  <p:nvPr/>
                </p:nvSpPr>
                <p:spPr>
                  <a:xfrm>
                    <a:off x="5690880" y="3949200"/>
                    <a:ext cx="83160" cy="160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5721840" y="3930840"/>
                    <a:ext cx="100440" cy="109440"/>
                    <a:chOff x="5721840" y="3930840"/>
                    <a:chExt cx="100440" cy="10944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flipV="1">
                      <a:off x="5721840" y="3930840"/>
                      <a:ext cx="64440" cy="109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5771880" y="3930840"/>
                      <a:ext cx="50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72" name=""/>
                <p:cNvSpPr/>
                <p:nvPr/>
              </p:nvSpPr>
              <p:spPr>
                <a:xfrm>
                  <a:off x="5454360" y="3126600"/>
                  <a:ext cx="169560" cy="2268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28600" y="3239640"/>
                  <a:ext cx="266400" cy="68220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599800" y="3591000"/>
                  <a:ext cx="294840" cy="5612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514120" y="3327480"/>
                  <a:ext cx="165960" cy="28692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5664600" y="3141000"/>
                <a:ext cx="7768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57920" y="3415680"/>
                <a:ext cx="72684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994000" y="3530160"/>
                <a:ext cx="537120" cy="3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6216120" y="3749760"/>
                <a:ext cx="493920" cy="2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6273360" y="3969720"/>
                <a:ext cx="562320" cy="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251760" y="4189320"/>
                <a:ext cx="36900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6151680" y="4353840"/>
                <a:ext cx="6123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07880" y="3239640"/>
                <a:ext cx="50832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1572480" y="3082680"/>
              <a:ext cx="1536120" cy="1232280"/>
              <a:chOff x="1572480" y="3082680"/>
              <a:chExt cx="1536120" cy="123228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2199240" y="3082680"/>
                <a:ext cx="909360" cy="1198440"/>
                <a:chOff x="2199240" y="3082680"/>
                <a:chExt cx="909360" cy="1198440"/>
              </a:xfrm>
            </p:grpSpPr>
            <p:grpSp>
              <p:nvGrpSpPr>
                <p:cNvPr id="686" name=""/>
                <p:cNvGrpSpPr/>
                <p:nvPr/>
              </p:nvGrpSpPr>
              <p:grpSpPr>
                <a:xfrm>
                  <a:off x="2199240" y="3196080"/>
                  <a:ext cx="909360" cy="1085040"/>
                  <a:chOff x="2199240" y="3196080"/>
                  <a:chExt cx="909360" cy="1085040"/>
                </a:xfrm>
              </p:grpSpPr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2199240" y="3740400"/>
                    <a:ext cx="336240" cy="540720"/>
                    <a:chOff x="2199240" y="3740400"/>
                    <a:chExt cx="336240" cy="54072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2200320" y="3740400"/>
                      <a:ext cx="330120" cy="53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2370960" y="3744000"/>
                      <a:ext cx="0" cy="537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2199240" y="4007160"/>
                      <a:ext cx="336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2249280" y="3820680"/>
                      <a:ext cx="236160" cy="36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flipH="1">
                      <a:off x="2248920" y="3831840"/>
                      <a:ext cx="243000" cy="36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2306160" y="3755160"/>
                      <a:ext cx="128880" cy="492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H="1">
                      <a:off x="2306160" y="3765960"/>
                      <a:ext cx="136080" cy="482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2213280" y="3908520"/>
                      <a:ext cx="315000" cy="186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V="1">
                      <a:off x="2220480" y="3930480"/>
                      <a:ext cx="307800" cy="174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7" name=""/>
                  <p:cNvSpPr/>
                  <p:nvPr/>
                </p:nvSpPr>
                <p:spPr>
                  <a:xfrm>
                    <a:off x="2370960" y="3536280"/>
                    <a:ext cx="430560" cy="4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0" y="252"/>
                        </a:moveTo>
                        <a:lnTo>
                          <a:pt x="117" y="0"/>
                        </a:lnTo>
                        <a:lnTo>
                          <a:pt x="360" y="0"/>
                        </a:lnTo>
                        <a:lnTo>
                          <a:pt x="266" y="252"/>
                        </a:lnTo>
                        <a:lnTo>
                          <a:pt x="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2743200" y="3196080"/>
                    <a:ext cx="365400" cy="1051920"/>
                    <a:chOff x="2743200" y="3196080"/>
                    <a:chExt cx="365400" cy="1051920"/>
                  </a:xfrm>
                </p:grpSpPr>
                <p:grpSp>
                  <p:nvGrpSpPr>
                    <p:cNvPr id="699" name=""/>
                    <p:cNvGrpSpPr/>
                    <p:nvPr/>
                  </p:nvGrpSpPr>
                  <p:grpSpPr>
                    <a:xfrm>
                      <a:off x="2743200" y="3707640"/>
                      <a:ext cx="336600" cy="540360"/>
                      <a:chOff x="2743200" y="3707640"/>
                      <a:chExt cx="336600" cy="540360"/>
                    </a:xfrm>
                  </p:grpSpPr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2744280" y="3707640"/>
                        <a:ext cx="330120" cy="533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2914920" y="3711240"/>
                        <a:ext cx="0" cy="536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2743200" y="3974400"/>
                        <a:ext cx="3366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2793240" y="3787920"/>
                        <a:ext cx="236160" cy="36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 flipH="1">
                        <a:off x="2792880" y="3799080"/>
                        <a:ext cx="243000" cy="36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2850480" y="3722040"/>
                        <a:ext cx="128520" cy="493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 flipH="1">
                        <a:off x="2850480" y="3733200"/>
                        <a:ext cx="136080" cy="482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2757240" y="3875760"/>
                        <a:ext cx="315000" cy="186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 flipV="1">
                        <a:off x="2764800" y="3897720"/>
                        <a:ext cx="307440" cy="174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2807280" y="3459240"/>
                      <a:ext cx="0" cy="164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2823120" y="3196080"/>
                      <a:ext cx="285480" cy="81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11" name=""/>
                    <p:cNvGrpSpPr/>
                    <p:nvPr/>
                  </p:nvGrpSpPr>
                  <p:grpSpPr>
                    <a:xfrm>
                      <a:off x="2784600" y="3457440"/>
                      <a:ext cx="122040" cy="189000"/>
                      <a:chOff x="2784600" y="3457440"/>
                      <a:chExt cx="122040" cy="189000"/>
                    </a:xfrm>
                  </p:grpSpPr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2784600" y="3461040"/>
                        <a:ext cx="11736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2788200" y="3457440"/>
                        <a:ext cx="11844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2793240" y="345924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2678760" y="3996720"/>
                    <a:ext cx="100440" cy="109080"/>
                    <a:chOff x="2678760" y="3996720"/>
                    <a:chExt cx="100440" cy="10908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2678760" y="3996720"/>
                      <a:ext cx="64440" cy="109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2728800" y="4105800"/>
                      <a:ext cx="50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8" name=""/>
                  <p:cNvSpPr/>
                  <p:nvPr/>
                </p:nvSpPr>
                <p:spPr>
                  <a:xfrm>
                    <a:off x="2633760" y="3905280"/>
                    <a:ext cx="83160" cy="160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2585160" y="3886920"/>
                    <a:ext cx="100440" cy="109440"/>
                    <a:chOff x="2585160" y="3886920"/>
                    <a:chExt cx="100440" cy="10944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 flipH="1" flipV="1">
                      <a:off x="2621160" y="3886920"/>
                      <a:ext cx="64440" cy="109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H="1">
                      <a:off x="2585160" y="388692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22" name=""/>
                <p:cNvSpPr/>
                <p:nvPr/>
              </p:nvSpPr>
              <p:spPr>
                <a:xfrm>
                  <a:off x="2783880" y="3082680"/>
                  <a:ext cx="169200" cy="2268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14240" y="3195720"/>
                  <a:ext cx="266040" cy="68220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222" y="0"/>
                      </a:moveTo>
                      <a:lnTo>
                        <a:pt x="0" y="180"/>
                      </a:lnTo>
                      <a:lnTo>
                        <a:pt x="210" y="156"/>
                      </a:lnTo>
                      <a:lnTo>
                        <a:pt x="54" y="342"/>
                      </a:lnTo>
                      <a:lnTo>
                        <a:pt x="96" y="372"/>
                      </a:lnTo>
                      <a:lnTo>
                        <a:pt x="30" y="366"/>
                      </a:lnTo>
                      <a:lnTo>
                        <a:pt x="54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514240" y="3547080"/>
                  <a:ext cx="294840" cy="5612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0" y="0"/>
                      </a:moveTo>
                      <a:lnTo>
                        <a:pt x="168" y="120"/>
                      </a:lnTo>
                      <a:lnTo>
                        <a:pt x="192" y="276"/>
                      </a:lnTo>
                      <a:lnTo>
                        <a:pt x="246" y="306"/>
                      </a:lnTo>
                      <a:lnTo>
                        <a:pt x="192" y="300"/>
                      </a:lnTo>
                      <a:lnTo>
                        <a:pt x="19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728800" y="3283560"/>
                  <a:ext cx="165960" cy="28692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0" y="0"/>
                      </a:moveTo>
                      <a:lnTo>
                        <a:pt x="138" y="156"/>
                      </a:lnTo>
                      <a:lnTo>
                        <a:pt x="132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" name=""/>
              <p:cNvSpPr/>
              <p:nvPr/>
            </p:nvSpPr>
            <p:spPr>
              <a:xfrm flipH="1">
                <a:off x="1966680" y="3097080"/>
                <a:ext cx="7768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1823040" y="3371760"/>
                <a:ext cx="72720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>
                <a:off x="1877040" y="3486240"/>
                <a:ext cx="537120" cy="3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 flipV="1">
                <a:off x="1697400" y="3706560"/>
                <a:ext cx="494280" cy="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flipV="1">
                <a:off x="1572480" y="3925800"/>
                <a:ext cx="562320" cy="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>
                <a:off x="1787040" y="4145400"/>
                <a:ext cx="36900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>
                <a:off x="1643760" y="4309920"/>
                <a:ext cx="6123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2091960" y="3195720"/>
                <a:ext cx="50832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rot="16080000">
              <a:off x="781560" y="3327840"/>
              <a:ext cx="1178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6080000">
              <a:off x="6666480" y="3338640"/>
              <a:ext cx="97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00"/>
                  </a:solidFill>
                  <a:latin typeface="Times New Roman"/>
                </a:rPr>
                <a:t>f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751680" y="59720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68360" y="130824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6 - reverse directions from neg to pos = posi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1284840" y="2514600"/>
            <a:ext cx="6408360" cy="3352320"/>
            <a:chOff x="1284840" y="2514600"/>
            <a:chExt cx="6408360" cy="3352320"/>
          </a:xfrm>
        </p:grpSpPr>
        <p:sp>
          <p:nvSpPr>
            <p:cNvPr id="740" name=""/>
            <p:cNvSpPr/>
            <p:nvPr/>
          </p:nvSpPr>
          <p:spPr>
            <a:xfrm>
              <a:off x="1604880" y="5257440"/>
              <a:ext cx="1905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43160" y="5257440"/>
              <a:ext cx="2895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01320" y="4217760"/>
              <a:ext cx="11682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-1 m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62280" y="4220280"/>
              <a:ext cx="12139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+1 m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1930320" y="4768200"/>
              <a:ext cx="1031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770440" y="4768200"/>
              <a:ext cx="974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3711600" y="3540600"/>
              <a:ext cx="1030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39280" y="354924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55800" y="2514600"/>
              <a:ext cx="687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783440" y="2607480"/>
              <a:ext cx="118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 dir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158360" y="2613600"/>
              <a:ext cx="1390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= 3 seco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5559480" y="3178800"/>
              <a:ext cx="1536120" cy="1072440"/>
              <a:chOff x="5559480" y="3178800"/>
              <a:chExt cx="1536120" cy="107244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5559480" y="3178800"/>
                <a:ext cx="909000" cy="1043280"/>
                <a:chOff x="5559480" y="3178800"/>
                <a:chExt cx="909000" cy="104328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5559480" y="3277080"/>
                  <a:ext cx="909000" cy="945000"/>
                  <a:chOff x="5559480" y="3277080"/>
                  <a:chExt cx="909000" cy="945000"/>
                </a:xfrm>
              </p:grpSpPr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6132240" y="3751200"/>
                    <a:ext cx="336240" cy="470880"/>
                    <a:chOff x="6132240" y="3751200"/>
                    <a:chExt cx="336240" cy="470880"/>
                  </a:xfrm>
                </p:grpSpPr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6136560" y="3751200"/>
                      <a:ext cx="330480" cy="464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6296400" y="3754440"/>
                      <a:ext cx="0" cy="467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>
                      <a:off x="6132240" y="3983400"/>
                      <a:ext cx="336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flipH="1">
                      <a:off x="6182280" y="3821040"/>
                      <a:ext cx="236160" cy="315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6175080" y="3830760"/>
                      <a:ext cx="243000" cy="315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>
                      <a:off x="6231960" y="3764160"/>
                      <a:ext cx="128520" cy="429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6225120" y="3773520"/>
                      <a:ext cx="135720" cy="419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 flipH="1">
                      <a:off x="6139080" y="3897360"/>
                      <a:ext cx="314640" cy="162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flipV="1">
                      <a:off x="6138720" y="3916440"/>
                      <a:ext cx="307800" cy="152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4" name=""/>
                  <p:cNvSpPr/>
                  <p:nvPr/>
                </p:nvSpPr>
                <p:spPr>
                  <a:xfrm>
                    <a:off x="5867280" y="3573000"/>
                    <a:ext cx="43092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5559480" y="3277080"/>
                    <a:ext cx="364680" cy="915840"/>
                    <a:chOff x="5559480" y="3277080"/>
                    <a:chExt cx="364680" cy="915840"/>
                  </a:xfrm>
                </p:grpSpPr>
                <p:grpSp>
                  <p:nvGrpSpPr>
                    <p:cNvPr id="766" name=""/>
                    <p:cNvGrpSpPr/>
                    <p:nvPr/>
                  </p:nvGrpSpPr>
                  <p:grpSpPr>
                    <a:xfrm>
                      <a:off x="5587560" y="3722760"/>
                      <a:ext cx="336600" cy="470160"/>
                      <a:chOff x="5587560" y="3722760"/>
                      <a:chExt cx="336600" cy="470160"/>
                    </a:xfrm>
                  </p:grpSpPr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5592600" y="3722760"/>
                        <a:ext cx="330120" cy="4640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5752440" y="3726000"/>
                        <a:ext cx="0" cy="46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 flipH="1">
                        <a:off x="5587560" y="3954600"/>
                        <a:ext cx="3366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0" name=""/>
                      <p:cNvSpPr/>
                      <p:nvPr/>
                    </p:nvSpPr>
                    <p:spPr>
                      <a:xfrm flipH="1">
                        <a:off x="5637960" y="3792600"/>
                        <a:ext cx="236160" cy="314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5630760" y="3801960"/>
                        <a:ext cx="243000" cy="315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 flipH="1">
                        <a:off x="5688000" y="3735360"/>
                        <a:ext cx="128880" cy="429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5680800" y="3745080"/>
                        <a:ext cx="136080" cy="419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 flipH="1">
                        <a:off x="5594400" y="3868920"/>
                        <a:ext cx="315000" cy="161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5" name=""/>
                      <p:cNvSpPr/>
                      <p:nvPr/>
                    </p:nvSpPr>
                    <p:spPr>
                      <a:xfrm flipH="1" flipV="1">
                        <a:off x="5594400" y="3887640"/>
                        <a:ext cx="307800" cy="152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5859720" y="3506400"/>
                      <a:ext cx="0" cy="142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5559480" y="3277080"/>
                      <a:ext cx="285480" cy="70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78" name=""/>
                    <p:cNvGrpSpPr/>
                    <p:nvPr/>
                  </p:nvGrpSpPr>
                  <p:grpSpPr>
                    <a:xfrm>
                      <a:off x="5760720" y="3504960"/>
                      <a:ext cx="123120" cy="164160"/>
                      <a:chOff x="5760720" y="3504960"/>
                      <a:chExt cx="123120" cy="164160"/>
                    </a:xfrm>
                  </p:grpSpPr>
                  <p:sp>
                    <p:nvSpPr>
                      <p:cNvPr id="779" name=""/>
                      <p:cNvSpPr/>
                      <p:nvPr/>
                    </p:nvSpPr>
                    <p:spPr>
                      <a:xfrm>
                        <a:off x="5765400" y="3508200"/>
                        <a:ext cx="118440" cy="16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0" name=""/>
                      <p:cNvSpPr/>
                      <p:nvPr/>
                    </p:nvSpPr>
                    <p:spPr>
                      <a:xfrm>
                        <a:off x="5760720" y="3504960"/>
                        <a:ext cx="118440" cy="16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81" name=""/>
                    <p:cNvSpPr/>
                    <p:nvPr/>
                  </p:nvSpPr>
                  <p:spPr>
                    <a:xfrm flipH="1">
                      <a:off x="5823720" y="350640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5888160" y="3974400"/>
                    <a:ext cx="100440" cy="95040"/>
                    <a:chOff x="5888160" y="3974400"/>
                    <a:chExt cx="100440" cy="9504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>
                      <a:off x="5924160" y="3974400"/>
                      <a:ext cx="64440" cy="95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>
                      <a:off x="5888160" y="406944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5" name=""/>
                  <p:cNvSpPr/>
                  <p:nvPr/>
                </p:nvSpPr>
                <p:spPr>
                  <a:xfrm>
                    <a:off x="5950800" y="3894480"/>
                    <a:ext cx="83160" cy="1396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5981760" y="3878280"/>
                    <a:ext cx="100440" cy="95400"/>
                    <a:chOff x="5981760" y="3878280"/>
                    <a:chExt cx="100440" cy="9540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flipV="1">
                      <a:off x="5981760" y="3878280"/>
                      <a:ext cx="64440" cy="95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>
                      <a:off x="6031800" y="3878640"/>
                      <a:ext cx="50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89" name=""/>
                <p:cNvSpPr/>
                <p:nvPr/>
              </p:nvSpPr>
              <p:spPr>
                <a:xfrm>
                  <a:off x="5714280" y="3178800"/>
                  <a:ext cx="169560" cy="19728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888520" y="3277080"/>
                  <a:ext cx="266400" cy="59364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859720" y="3583080"/>
                  <a:ext cx="294840" cy="48852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774040" y="3353760"/>
                  <a:ext cx="165960" cy="249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"/>
              <p:cNvSpPr/>
              <p:nvPr/>
            </p:nvSpPr>
            <p:spPr>
              <a:xfrm>
                <a:off x="5924520" y="3191400"/>
                <a:ext cx="7768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17840" y="3430440"/>
                <a:ext cx="72684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6254280" y="3529800"/>
                <a:ext cx="5371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476400" y="3720960"/>
                <a:ext cx="49392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533280" y="3912840"/>
                <a:ext cx="5623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6512040" y="4103640"/>
                <a:ext cx="3690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6411960" y="4246560"/>
                <a:ext cx="6123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067800" y="3277080"/>
                <a:ext cx="50832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1832040" y="3140640"/>
              <a:ext cx="1536120" cy="1072440"/>
              <a:chOff x="1832040" y="3140640"/>
              <a:chExt cx="1536120" cy="107244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2458800" y="3140640"/>
                <a:ext cx="909360" cy="1043280"/>
                <a:chOff x="2458800" y="3140640"/>
                <a:chExt cx="909360" cy="104328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2458800" y="3238920"/>
                  <a:ext cx="909360" cy="945000"/>
                  <a:chOff x="2458800" y="3238920"/>
                  <a:chExt cx="909360" cy="94500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2458800" y="3713040"/>
                    <a:ext cx="336240" cy="470880"/>
                    <a:chOff x="2458800" y="3713040"/>
                    <a:chExt cx="336240" cy="47088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2459880" y="3713040"/>
                      <a:ext cx="330120" cy="464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2630520" y="3716280"/>
                      <a:ext cx="0" cy="467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2458800" y="3945240"/>
                      <a:ext cx="336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2508840" y="3782880"/>
                      <a:ext cx="236160" cy="315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H="1">
                      <a:off x="2508480" y="3792600"/>
                      <a:ext cx="243000" cy="315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2565720" y="3726000"/>
                      <a:ext cx="128880" cy="429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flipH="1">
                      <a:off x="2565720" y="3735360"/>
                      <a:ext cx="136080" cy="419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2472840" y="3859200"/>
                      <a:ext cx="315000" cy="162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flipV="1">
                      <a:off x="2480040" y="3878280"/>
                      <a:ext cx="307800" cy="152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4" name=""/>
                  <p:cNvSpPr/>
                  <p:nvPr/>
                </p:nvSpPr>
                <p:spPr>
                  <a:xfrm>
                    <a:off x="2630520" y="3535200"/>
                    <a:ext cx="43056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0" y="252"/>
                        </a:moveTo>
                        <a:lnTo>
                          <a:pt x="117" y="0"/>
                        </a:lnTo>
                        <a:lnTo>
                          <a:pt x="360" y="0"/>
                        </a:lnTo>
                        <a:lnTo>
                          <a:pt x="266" y="252"/>
                        </a:lnTo>
                        <a:lnTo>
                          <a:pt x="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3002760" y="3238920"/>
                    <a:ext cx="365400" cy="915840"/>
                    <a:chOff x="3002760" y="3238920"/>
                    <a:chExt cx="365400" cy="915840"/>
                  </a:xfrm>
                </p:grpSpPr>
                <p:grpSp>
                  <p:nvGrpSpPr>
                    <p:cNvPr id="816" name=""/>
                    <p:cNvGrpSpPr/>
                    <p:nvPr/>
                  </p:nvGrpSpPr>
                  <p:grpSpPr>
                    <a:xfrm>
                      <a:off x="3002760" y="3684600"/>
                      <a:ext cx="336600" cy="470160"/>
                      <a:chOff x="3002760" y="3684600"/>
                      <a:chExt cx="336600" cy="470160"/>
                    </a:xfrm>
                  </p:grpSpPr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3003840" y="3684600"/>
                        <a:ext cx="330120" cy="4640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8" name=""/>
                      <p:cNvSpPr/>
                      <p:nvPr/>
                    </p:nvSpPr>
                    <p:spPr>
                      <a:xfrm>
                        <a:off x="3174480" y="3687840"/>
                        <a:ext cx="0" cy="46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9" name=""/>
                      <p:cNvSpPr/>
                      <p:nvPr/>
                    </p:nvSpPr>
                    <p:spPr>
                      <a:xfrm>
                        <a:off x="3002760" y="3916440"/>
                        <a:ext cx="3366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0" name=""/>
                      <p:cNvSpPr/>
                      <p:nvPr/>
                    </p:nvSpPr>
                    <p:spPr>
                      <a:xfrm>
                        <a:off x="3052800" y="3754440"/>
                        <a:ext cx="236160" cy="314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1" name=""/>
                      <p:cNvSpPr/>
                      <p:nvPr/>
                    </p:nvSpPr>
                    <p:spPr>
                      <a:xfrm flipH="1">
                        <a:off x="3052440" y="3764160"/>
                        <a:ext cx="243000" cy="314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2" name=""/>
                      <p:cNvSpPr/>
                      <p:nvPr/>
                    </p:nvSpPr>
                    <p:spPr>
                      <a:xfrm>
                        <a:off x="3110040" y="3697200"/>
                        <a:ext cx="128520" cy="429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" name=""/>
                      <p:cNvSpPr/>
                      <p:nvPr/>
                    </p:nvSpPr>
                    <p:spPr>
                      <a:xfrm flipH="1">
                        <a:off x="3110040" y="3706920"/>
                        <a:ext cx="136080" cy="419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3016800" y="3830760"/>
                        <a:ext cx="315000" cy="162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 flipV="1">
                        <a:off x="3024360" y="3849480"/>
                        <a:ext cx="307440" cy="152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3066840" y="3468240"/>
                      <a:ext cx="0" cy="142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3082680" y="3238920"/>
                      <a:ext cx="285480" cy="70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28" name=""/>
                    <p:cNvGrpSpPr/>
                    <p:nvPr/>
                  </p:nvGrpSpPr>
                  <p:grpSpPr>
                    <a:xfrm>
                      <a:off x="3044160" y="3466800"/>
                      <a:ext cx="122040" cy="164880"/>
                      <a:chOff x="3044160" y="3466800"/>
                      <a:chExt cx="122040" cy="164880"/>
                    </a:xfrm>
                  </p:grpSpPr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3044160" y="3470040"/>
                        <a:ext cx="117360" cy="16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3047760" y="3466800"/>
                        <a:ext cx="118440" cy="16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3052800" y="346824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2" name=""/>
                  <p:cNvGrpSpPr/>
                  <p:nvPr/>
                </p:nvGrpSpPr>
                <p:grpSpPr>
                  <a:xfrm>
                    <a:off x="2938320" y="3936240"/>
                    <a:ext cx="100440" cy="95040"/>
                    <a:chOff x="2938320" y="3936240"/>
                    <a:chExt cx="100440" cy="95040"/>
                  </a:xfrm>
                </p:grpSpPr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2938320" y="3936240"/>
                      <a:ext cx="64440" cy="95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2988360" y="4031280"/>
                      <a:ext cx="50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5" name=""/>
                  <p:cNvSpPr/>
                  <p:nvPr/>
                </p:nvSpPr>
                <p:spPr>
                  <a:xfrm>
                    <a:off x="2893320" y="3856320"/>
                    <a:ext cx="83160" cy="1396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2844720" y="3840120"/>
                    <a:ext cx="100440" cy="95400"/>
                    <a:chOff x="2844720" y="3840120"/>
                    <a:chExt cx="100440" cy="9540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flipV="1">
                      <a:off x="2880720" y="3840120"/>
                      <a:ext cx="64440" cy="95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>
                      <a:off x="2844720" y="384048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39" name=""/>
                <p:cNvSpPr/>
                <p:nvPr/>
              </p:nvSpPr>
              <p:spPr>
                <a:xfrm>
                  <a:off x="3043440" y="3140640"/>
                  <a:ext cx="169200" cy="19728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2773800" y="3238920"/>
                  <a:ext cx="266040" cy="59364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222" y="0"/>
                      </a:moveTo>
                      <a:lnTo>
                        <a:pt x="0" y="180"/>
                      </a:lnTo>
                      <a:lnTo>
                        <a:pt x="210" y="156"/>
                      </a:lnTo>
                      <a:lnTo>
                        <a:pt x="54" y="342"/>
                      </a:lnTo>
                      <a:lnTo>
                        <a:pt x="96" y="372"/>
                      </a:lnTo>
                      <a:lnTo>
                        <a:pt x="30" y="366"/>
                      </a:lnTo>
                      <a:lnTo>
                        <a:pt x="54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2773800" y="3544920"/>
                  <a:ext cx="294840" cy="48852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0" y="0"/>
                      </a:moveTo>
                      <a:lnTo>
                        <a:pt x="168" y="120"/>
                      </a:lnTo>
                      <a:lnTo>
                        <a:pt x="192" y="276"/>
                      </a:lnTo>
                      <a:lnTo>
                        <a:pt x="246" y="306"/>
                      </a:lnTo>
                      <a:lnTo>
                        <a:pt x="192" y="300"/>
                      </a:lnTo>
                      <a:lnTo>
                        <a:pt x="19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2988360" y="3315600"/>
                  <a:ext cx="165960" cy="249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0" y="0"/>
                      </a:moveTo>
                      <a:lnTo>
                        <a:pt x="138" y="156"/>
                      </a:lnTo>
                      <a:lnTo>
                        <a:pt x="132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3" name=""/>
              <p:cNvSpPr/>
              <p:nvPr/>
            </p:nvSpPr>
            <p:spPr>
              <a:xfrm flipH="1">
                <a:off x="2226240" y="3153240"/>
                <a:ext cx="7768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2082600" y="3392280"/>
                <a:ext cx="72720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 flipV="1">
                <a:off x="2136600" y="3491640"/>
                <a:ext cx="5371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 flipV="1">
                <a:off x="1956960" y="3683520"/>
                <a:ext cx="4942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>
                <a:off x="1832040" y="3874680"/>
                <a:ext cx="5623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 flipV="1">
                <a:off x="2046600" y="4065480"/>
                <a:ext cx="3690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 flipV="1">
                <a:off x="1903320" y="4208400"/>
                <a:ext cx="6123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2351520" y="3238920"/>
                <a:ext cx="50832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 rot="16080000">
              <a:off x="6793200" y="3455280"/>
              <a:ext cx="1178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16080000">
              <a:off x="1103760" y="3429720"/>
              <a:ext cx="97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00"/>
                  </a:solidFill>
                  <a:latin typeface="Times New Roman"/>
                </a:rPr>
                <a:t>f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754920" y="548640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orizontal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n airplane taking off. As it goes down the runway it increases its speed until it is going fast enough to “lift off”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ut wait a minut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it’s vertical straight line motion…say, like a rocket going up at Cape Canaveral?!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 are traveling in a vertical direction, acceleration is always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acceleration of gravit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always has the sam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vertical motion problems, simply substit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y of the straight-line motion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676520" y="3962520"/>
                <a:ext cx="632448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53337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"/>
              </a:rPr>
              <a:t>vector quantit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efined as the rate at which an object changes it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2"/>
              </a:rPr>
              <a:t>velo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n object is accelerating if it is changing its velo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celn" descr="acceleration"/>
          <p:cNvPicPr/>
          <p:nvPr/>
        </p:nvPicPr>
        <p:blipFill>
          <a:blip r:embed="rId3"/>
          <a:stretch/>
        </p:blipFill>
        <p:spPr>
          <a:xfrm>
            <a:off x="533520" y="3505320"/>
            <a:ext cx="8001000" cy="2692440"/>
          </a:xfrm>
          <a:prstGeom prst="rect">
            <a:avLst/>
          </a:prstGeom>
          <a:ln w="0">
            <a:noFill/>
          </a:ln>
        </p:spPr>
      </p:pic>
      <p:pic>
        <p:nvPicPr>
          <p:cNvPr id="59" name="acceln1" descr="graph"/>
          <p:cNvPicPr/>
          <p:nvPr/>
        </p:nvPicPr>
        <p:blipFill>
          <a:blip r:embed="rId4"/>
          <a:srcRect l="9087" t="0" r="0" b="0"/>
          <a:stretch/>
        </p:blipFill>
        <p:spPr>
          <a:xfrm>
            <a:off x="6095880" y="1295280"/>
            <a:ext cx="3048120" cy="194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irborne motion is</a:t>
            </a:r>
            <a:br>
              <a:rPr sz="3200"/>
            </a:b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UNIFORMLY ACCELERATED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nge in velocity over time is linear so we say the change in velocity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ant acceleration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-9.8 m/s</a:t>
            </a:r>
            <a:r>
              <a:rPr b="1" i="1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his is the rate at which any airborne object will accele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400480" y="6006960"/>
            <a:ext cx="1287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46400" y="6006960"/>
            <a:ext cx="19558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63800" y="3801960"/>
            <a:ext cx="4529160" cy="2086200"/>
          </a:xfrm>
          <a:custGeom>
            <a:avLst/>
            <a:gdLst/>
            <a:ahLst/>
            <a:rect l="l" t="t" r="r" b="b"/>
            <a:pathLst>
              <a:path w="4225" h="2497">
                <a:moveTo>
                  <a:pt x="0" y="0"/>
                </a:moveTo>
                <a:lnTo>
                  <a:pt x="0" y="2496"/>
                </a:lnTo>
                <a:lnTo>
                  <a:pt x="0" y="1152"/>
                </a:lnTo>
                <a:lnTo>
                  <a:pt x="4224" y="11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25880" y="3805200"/>
            <a:ext cx="93600" cy="73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171960" y="3841920"/>
            <a:ext cx="4116240" cy="164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89560" y="4727520"/>
            <a:ext cx="93600" cy="73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242120" y="5450040"/>
            <a:ext cx="93600" cy="72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424560" y="3483000"/>
            <a:ext cx="850320" cy="1338120"/>
            <a:chOff x="6424560" y="3483000"/>
            <a:chExt cx="850320" cy="1338120"/>
          </a:xfrm>
        </p:grpSpPr>
        <p:grpSp>
          <p:nvGrpSpPr>
            <p:cNvPr id="869" name=""/>
            <p:cNvGrpSpPr/>
            <p:nvPr/>
          </p:nvGrpSpPr>
          <p:grpSpPr>
            <a:xfrm>
              <a:off x="6501600" y="3993480"/>
              <a:ext cx="136800" cy="541440"/>
              <a:chOff x="6501600" y="3993480"/>
              <a:chExt cx="136800" cy="541440"/>
            </a:xfrm>
          </p:grpSpPr>
          <p:sp>
            <p:nvSpPr>
              <p:cNvPr id="870" name=""/>
              <p:cNvSpPr/>
              <p:nvPr/>
            </p:nvSpPr>
            <p:spPr>
              <a:xfrm>
                <a:off x="6553800" y="4088520"/>
                <a:ext cx="73440" cy="6264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"/>
              <p:cNvGrpSpPr/>
              <p:nvPr/>
            </p:nvGrpSpPr>
            <p:grpSpPr>
              <a:xfrm>
                <a:off x="6501600" y="3993480"/>
                <a:ext cx="136800" cy="541440"/>
                <a:chOff x="6501600" y="3993480"/>
                <a:chExt cx="136800" cy="54144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6501600" y="4158000"/>
                  <a:ext cx="85320" cy="376920"/>
                </a:xfrm>
                <a:custGeom>
                  <a:avLst/>
                  <a:gdLst/>
                  <a:ahLst/>
                  <a:rect l="l" t="t" r="r" b="b"/>
                  <a:pathLst>
                    <a:path w="80" h="451">
                      <a:moveTo>
                        <a:pt x="79" y="0"/>
                      </a:moveTo>
                      <a:lnTo>
                        <a:pt x="36" y="164"/>
                      </a:lnTo>
                      <a:lnTo>
                        <a:pt x="43" y="281"/>
                      </a:lnTo>
                      <a:lnTo>
                        <a:pt x="21" y="400"/>
                      </a:lnTo>
                      <a:lnTo>
                        <a:pt x="38" y="450"/>
                      </a:lnTo>
                      <a:lnTo>
                        <a:pt x="0" y="405"/>
                      </a:lnTo>
                      <a:lnTo>
                        <a:pt x="21" y="396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570000" y="3993480"/>
                  <a:ext cx="68400" cy="203040"/>
                </a:xfrm>
                <a:custGeom>
                  <a:avLst/>
                  <a:gdLst/>
                  <a:ahLst/>
                  <a:rect l="l" t="t" r="r" b="b"/>
                  <a:pathLst>
                    <a:path w="64" h="243">
                      <a:moveTo>
                        <a:pt x="0" y="242"/>
                      </a:moveTo>
                      <a:lnTo>
                        <a:pt x="41" y="116"/>
                      </a:lnTo>
                      <a:lnTo>
                        <a:pt x="63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"/>
            <p:cNvGrpSpPr/>
            <p:nvPr/>
          </p:nvGrpSpPr>
          <p:grpSpPr>
            <a:xfrm>
              <a:off x="6544800" y="3748680"/>
              <a:ext cx="643320" cy="1072440"/>
              <a:chOff x="6544800" y="3748680"/>
              <a:chExt cx="643320" cy="1072440"/>
            </a:xfrm>
          </p:grpSpPr>
          <p:sp>
            <p:nvSpPr>
              <p:cNvPr id="875" name=""/>
              <p:cNvSpPr/>
              <p:nvPr/>
            </p:nvSpPr>
            <p:spPr>
              <a:xfrm>
                <a:off x="6545520" y="3748680"/>
                <a:ext cx="642600" cy="10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3"/>
                    </a:moveTo>
                    <a:arcTo wR="10800" hR="10800" stAng="-10794650" swAng="53831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3"/>
                    </a:moveTo>
                    <a:arcTo wR="10800" hR="10800" stAng="-10794650" swAng="538318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544800" y="3749400"/>
                <a:ext cx="642240" cy="107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6806880" y="3483000"/>
              <a:ext cx="137880" cy="540720"/>
              <a:chOff x="6806880" y="3483000"/>
              <a:chExt cx="137880" cy="540720"/>
            </a:xfrm>
          </p:grpSpPr>
          <p:sp>
            <p:nvSpPr>
              <p:cNvPr id="878" name=""/>
              <p:cNvSpPr/>
              <p:nvPr/>
            </p:nvSpPr>
            <p:spPr>
              <a:xfrm>
                <a:off x="6860520" y="3578040"/>
                <a:ext cx="74880" cy="6156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6806880" y="3483000"/>
                <a:ext cx="137880" cy="540720"/>
                <a:chOff x="6806880" y="3483000"/>
                <a:chExt cx="137880" cy="54072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6806880" y="3646800"/>
                  <a:ext cx="86760" cy="376920"/>
                </a:xfrm>
                <a:custGeom>
                  <a:avLst/>
                  <a:gdLst/>
                  <a:ahLst/>
                  <a:rect l="l" t="t" r="r" b="b"/>
                  <a:pathLst>
                    <a:path w="81" h="451">
                      <a:moveTo>
                        <a:pt x="80" y="0"/>
                      </a:moveTo>
                      <a:lnTo>
                        <a:pt x="37" y="164"/>
                      </a:lnTo>
                      <a:lnTo>
                        <a:pt x="43" y="281"/>
                      </a:lnTo>
                      <a:lnTo>
                        <a:pt x="22" y="400"/>
                      </a:lnTo>
                      <a:lnTo>
                        <a:pt x="39" y="450"/>
                      </a:lnTo>
                      <a:lnTo>
                        <a:pt x="0" y="405"/>
                      </a:lnTo>
                      <a:lnTo>
                        <a:pt x="22" y="396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877440" y="3483000"/>
                  <a:ext cx="67320" cy="203040"/>
                </a:xfrm>
                <a:custGeom>
                  <a:avLst/>
                  <a:gdLst/>
                  <a:ahLst/>
                  <a:rect l="l" t="t" r="r" b="b"/>
                  <a:pathLst>
                    <a:path w="63" h="243">
                      <a:moveTo>
                        <a:pt x="0" y="242"/>
                      </a:moveTo>
                      <a:lnTo>
                        <a:pt x="41" y="11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2" name=""/>
            <p:cNvGrpSpPr/>
            <p:nvPr/>
          </p:nvGrpSpPr>
          <p:grpSpPr>
            <a:xfrm>
              <a:off x="7138440" y="3997800"/>
              <a:ext cx="136440" cy="540360"/>
              <a:chOff x="7138440" y="3997800"/>
              <a:chExt cx="136440" cy="540360"/>
            </a:xfrm>
          </p:grpSpPr>
          <p:sp>
            <p:nvSpPr>
              <p:cNvPr id="883" name=""/>
              <p:cNvSpPr/>
              <p:nvPr/>
            </p:nvSpPr>
            <p:spPr>
              <a:xfrm>
                <a:off x="7190640" y="4092840"/>
                <a:ext cx="74880" cy="6156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7138440" y="3997800"/>
                <a:ext cx="136440" cy="540360"/>
                <a:chOff x="7138440" y="3997800"/>
                <a:chExt cx="136440" cy="54036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7138440" y="4161600"/>
                  <a:ext cx="85680" cy="376560"/>
                </a:xfrm>
                <a:custGeom>
                  <a:avLst/>
                  <a:gdLst/>
                  <a:ahLst/>
                  <a:rect l="l" t="t" r="r" b="b"/>
                  <a:pathLst>
                    <a:path w="80" h="451">
                      <a:moveTo>
                        <a:pt x="79" y="0"/>
                      </a:moveTo>
                      <a:lnTo>
                        <a:pt x="36" y="164"/>
                      </a:lnTo>
                      <a:lnTo>
                        <a:pt x="43" y="281"/>
                      </a:lnTo>
                      <a:lnTo>
                        <a:pt x="21" y="400"/>
                      </a:lnTo>
                      <a:lnTo>
                        <a:pt x="38" y="450"/>
                      </a:lnTo>
                      <a:lnTo>
                        <a:pt x="0" y="405"/>
                      </a:lnTo>
                      <a:lnTo>
                        <a:pt x="21" y="396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207920" y="3997800"/>
                  <a:ext cx="66960" cy="203040"/>
                </a:xfrm>
                <a:custGeom>
                  <a:avLst/>
                  <a:gdLst/>
                  <a:ahLst/>
                  <a:rect l="l" t="t" r="r" b="b"/>
                  <a:pathLst>
                    <a:path w="63" h="243">
                      <a:moveTo>
                        <a:pt x="0" y="242"/>
                      </a:moveTo>
                      <a:lnTo>
                        <a:pt x="41" y="11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7" name=""/>
            <p:cNvGrpSpPr/>
            <p:nvPr/>
          </p:nvGrpSpPr>
          <p:grpSpPr>
            <a:xfrm>
              <a:off x="6424560" y="4317120"/>
              <a:ext cx="272880" cy="219600"/>
              <a:chOff x="6424560" y="4317120"/>
              <a:chExt cx="272880" cy="219600"/>
            </a:xfrm>
          </p:grpSpPr>
          <p:sp>
            <p:nvSpPr>
              <p:cNvPr id="888" name=""/>
              <p:cNvSpPr/>
              <p:nvPr/>
            </p:nvSpPr>
            <p:spPr>
              <a:xfrm>
                <a:off x="6621480" y="4317120"/>
                <a:ext cx="75960" cy="5760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458760" y="4357080"/>
                <a:ext cx="161640" cy="179640"/>
              </a:xfrm>
              <a:custGeom>
                <a:avLst/>
                <a:gdLst/>
                <a:ahLst/>
                <a:rect l="l" t="t" r="r" b="b"/>
                <a:pathLst>
                  <a:path w="151" h="215">
                    <a:moveTo>
                      <a:pt x="150" y="0"/>
                    </a:moveTo>
                    <a:lnTo>
                      <a:pt x="7" y="93"/>
                    </a:lnTo>
                    <a:lnTo>
                      <a:pt x="130" y="108"/>
                    </a:lnTo>
                    <a:lnTo>
                      <a:pt x="18" y="194"/>
                    </a:lnTo>
                    <a:lnTo>
                      <a:pt x="72" y="214"/>
                    </a:lnTo>
                    <a:lnTo>
                      <a:pt x="0" y="214"/>
                    </a:lnTo>
                    <a:lnTo>
                      <a:pt x="18" y="19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424560" y="4352760"/>
                <a:ext cx="160560" cy="40680"/>
              </a:xfrm>
              <a:custGeom>
                <a:avLst/>
                <a:gdLst/>
                <a:ahLst/>
                <a:rect l="l" t="t" r="r" b="b"/>
                <a:pathLst>
                  <a:path w="150" h="49">
                    <a:moveTo>
                      <a:pt x="149" y="26"/>
                    </a:moveTo>
                    <a:lnTo>
                      <a:pt x="56" y="0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1" name=""/>
          <p:cNvSpPr/>
          <p:nvPr/>
        </p:nvSpPr>
        <p:spPr>
          <a:xfrm>
            <a:off x="486900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ree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rce of gravity points down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ion of gravity near the surface of Earth is called g = 9.8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2.1 ft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 resistance ign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en the conditions of one-dimensional kinematics – straight line motion with constant accel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3941280" y="1342800"/>
            <a:ext cx="4859640" cy="48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-9 G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Increased chest pain and pressure; breathing difficult, with shallow respiration from position of nearly full inspiration; further reduction in peripheral vision, increased blurring, occasional tunneling, great concentration to maintain focus; occasional lacrimation; body, legs, and arms cannot be lifted at 8 G; head cannot be lifted at 9 G.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-12 G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Breathing difficulty severe; increased chest pain; marked fatigue; loss of peripheral vision, diminution of central acuity, lacrimation.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5 Gs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Extreme difficulty in breathing and speaking; severe vise-like chest pain; loss of tactile sensation; recurrent complete loss of vis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title"/>
          </p:nvPr>
        </p:nvSpPr>
        <p:spPr>
          <a:xfrm>
            <a:off x="4019400" y="171000"/>
            <a:ext cx="484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uman Response to Sustained g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349880" y="6004080"/>
            <a:ext cx="44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imarily from: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astronautics Data Boo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cond edition, 1973, NAS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pe01981_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257200" cy="232740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838080" y="650880"/>
            <a:ext cx="3049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ertain activities people experience + &amp; - accelerations.  By standardizing these accelerations to the normal acceleration on earth (-9.8 m/s/s) you get an idea of how much force they are experi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robl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raw a pi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ist values for any parameters that are 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Find equations in which all of the variables are known except the one that you are trying to f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Iso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Substitute values for variable and sol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rease or decrease of velocity per unit time is called accel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rate of change of velo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ion may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nge in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nge in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units are meters per second squared (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nd some not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leration is a ve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can be positive or 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rest means initial time is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velocity is constant, acceleration is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velocity increases at a constant rate, acceleration is uni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niformly Accelerated Motion Along a Straigh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ion is a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acceleration vector lies in the                    line of the displacement ve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ccelerating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242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U1L1e12" descr="time velocity table"/>
          <p:cNvPicPr/>
          <p:nvPr/>
        </p:nvPicPr>
        <p:blipFill>
          <a:blip r:embed="rId1"/>
          <a:stretch/>
        </p:blipFill>
        <p:spPr>
          <a:xfrm>
            <a:off x="533520" y="1752480"/>
            <a:ext cx="7772400" cy="434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acceleration is the change in velocity divided by the change in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ion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nge in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371600" y="3886200"/>
                <a:ext cx="621828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The 5 Acceleration Equ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29000" y="838080"/>
                <a:ext cx="24512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 rot="10800000">
                <a:off x="685800" y="2057040"/>
                <a:ext cx="43434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15000" y="3048120"/>
                <a:ext cx="304812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90720" y="3962520"/>
                <a:ext cx="3771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800600" y="5029200"/>
                <a:ext cx="38862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-t, v-t, a-t graphs for constant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zconstant%20acceleration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977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02:42:53Z</dcterms:created>
  <dc:creator>Division of Technology</dc:creator>
  <dc:description/>
  <dc:language>en-US</dc:language>
  <cp:lastModifiedBy>Pat Webster</cp:lastModifiedBy>
  <dcterms:modified xsi:type="dcterms:W3CDTF">2005-01-13T21:24:29Z</dcterms:modified>
  <cp:revision>49</cp:revision>
  <dc:subject/>
  <dc:title>Math:  The Language of Physics</dc:title>
</cp:coreProperties>
</file>